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C25-ECF6-4C1A-9847-A35B0EF2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537-1E2B-45DC-927B-ED94298E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AAF-2352-487D-B350-BE0B3E7D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C31-6F05-45D4-B652-799E884F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0F4-BE85-4E26-BE20-79F3BD6B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4A6-8256-491A-AB91-892040B2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595-242C-4821-BD88-BE875E9A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5852-EB55-4240-A115-C50214B7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251-42E9-41AD-AF03-2F93CE7B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80F-E5EB-471F-9C7C-40D73245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E4A-FEE1-46C6-B0B9-A392CD5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18C-0B80-412E-804B-7D7D6E0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4E62-2AAF-4AEE-9E39-C9F24990D4F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g002.jpg"/>
          <p:cNvPicPr/>
          <p:nvPr/>
        </p:nvPicPr>
        <p:blipFill>
          <a:blip r:embed="rId1"/>
          <a:stretch/>
        </p:blipFill>
        <p:spPr>
          <a:xfrm>
            <a:off x="-176040" y="0"/>
            <a:ext cx="9496080" cy="728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619280" y="764640"/>
            <a:ext cx="6059520" cy="46044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ктральный анал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flipV="1" rot="10800000">
            <a:off x="539280" y="1915200"/>
            <a:ext cx="3311640" cy="502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ом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 flipV="1" rot="10800000">
            <a:off x="5579640" y="1915200"/>
            <a:ext cx="3311640" cy="502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лекуляр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 flipV="1" rot="10800000">
            <a:off x="0" y="3068640"/>
            <a:ext cx="2735280" cy="503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иссион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 flipV="1" rot="10800000">
            <a:off x="826560" y="4005360"/>
            <a:ext cx="3598920" cy="503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рбцион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utoShape 12"/>
          <p:cNvSpPr/>
          <p:nvPr/>
        </p:nvSpPr>
        <p:spPr>
          <a:xfrm rot="20355000">
            <a:off x="3779640" y="2349000"/>
            <a:ext cx="347400" cy="648000"/>
          </a:xfrm>
          <a:prstGeom prst="downArrow">
            <a:avLst>
              <a:gd name="adj1" fmla="val 50000"/>
              <a:gd name="adj2" fmla="val 46632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 rot="1585800">
            <a:off x="2123640" y="1196640"/>
            <a:ext cx="287280" cy="647640"/>
          </a:xfrm>
          <a:prstGeom prst="downArrow">
            <a:avLst>
              <a:gd name="adj1" fmla="val 50000"/>
              <a:gd name="adj2" fmla="val 5636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 rot="1585800">
            <a:off x="1186920" y="2349000"/>
            <a:ext cx="287640" cy="648000"/>
          </a:xfrm>
          <a:prstGeom prst="downArrow">
            <a:avLst>
              <a:gd name="adj1" fmla="val 50000"/>
              <a:gd name="adj2" fmla="val 5632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 flipV="1" rot="10800000">
            <a:off x="3419640" y="2996280"/>
            <a:ext cx="3598560" cy="5029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бсорбцион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2916360" y="2349360"/>
            <a:ext cx="287280" cy="1511280"/>
          </a:xfrm>
          <a:prstGeom prst="downArrow">
            <a:avLst>
              <a:gd name="adj1" fmla="val 50000"/>
              <a:gd name="adj2" fmla="val 131516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 rot="20355000">
            <a:off x="6659280" y="1268280"/>
            <a:ext cx="347760" cy="648000"/>
          </a:xfrm>
          <a:prstGeom prst="downArrow">
            <a:avLst>
              <a:gd name="adj1" fmla="val 50000"/>
              <a:gd name="adj2" fmla="val 46584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214280" y="642960"/>
            <a:ext cx="6286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ктры, полученные от самосветящихся тел, называются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пектрами испуск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ектры испускания бывают трех  тип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плошн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Линейчат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лосаты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5143680" y="414324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4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Управляющая кнопка: далее 11"/>
          <p:cNvSpPr/>
          <p:nvPr/>
        </p:nvSpPr>
        <p:spPr>
          <a:xfrm>
            <a:off x="5143680" y="471492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3794"/>
                </a:moveTo>
                <a:lnTo>
                  <a:pt x="22124" y="10800"/>
                </a:lnTo>
                <a:lnTo>
                  <a:pt x="8111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4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Управляющая кнопка: далее 12"/>
          <p:cNvSpPr/>
          <p:nvPr/>
        </p:nvSpPr>
        <p:spPr>
          <a:xfrm>
            <a:off x="5143680" y="5286240"/>
            <a:ext cx="500040" cy="35748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3794"/>
                </a:moveTo>
                <a:lnTo>
                  <a:pt x="22109" y="10800"/>
                </a:lnTo>
                <a:lnTo>
                  <a:pt x="8096" y="17806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4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Стрелка вправо с вырезом 14"/>
          <p:cNvSpPr/>
          <p:nvPr/>
        </p:nvSpPr>
        <p:spPr>
          <a:xfrm>
            <a:off x="7000920" y="5643720"/>
            <a:ext cx="714240" cy="642960"/>
          </a:xfrm>
          <a:custGeom>
            <a:avLst/>
            <a:gdLst>
              <a:gd name="textAreaLeft" fmla="*/ 160560 w 714240"/>
              <a:gd name="textAreaRight" fmla="*/ 553680 w 714240"/>
              <a:gd name="textAreaTop" fmla="*/ 160560 h 642960"/>
              <a:gd name="textAreaBottom" fmla="*/ 482400 h 6429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1880" y="5400"/>
                </a:lnTo>
                <a:lnTo>
                  <a:pt x="11880" y="0"/>
                </a:lnTo>
                <a:lnTo>
                  <a:pt x="21600" y="10800"/>
                </a:lnTo>
                <a:lnTo>
                  <a:pt x="11880" y="21600"/>
                </a:lnTo>
                <a:lnTo>
                  <a:pt x="11880" y="16200"/>
                </a:lnTo>
                <a:lnTo>
                  <a:pt x="0" y="16200"/>
                </a:lnTo>
                <a:lnTo>
                  <a:pt x="486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4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Группа 41"/>
          <p:cNvGrpSpPr/>
          <p:nvPr/>
        </p:nvGrpSpPr>
        <p:grpSpPr>
          <a:xfrm>
            <a:off x="395280" y="1341360"/>
            <a:ext cx="8429760" cy="1928520"/>
            <a:chOff x="395280" y="1341360"/>
            <a:chExt cx="8429760" cy="1928520"/>
          </a:xfrm>
        </p:grpSpPr>
        <p:sp>
          <p:nvSpPr>
            <p:cNvPr id="88" name="Прямоугольник 4"/>
            <p:cNvSpPr/>
            <p:nvPr/>
          </p:nvSpPr>
          <p:spPr>
            <a:xfrm>
              <a:off x="3467160" y="1341360"/>
              <a:ext cx="2357280" cy="571320"/>
            </a:xfrm>
            <a:prstGeom prst="rect">
              <a:avLst/>
            </a:prstGeom>
            <a:solidFill>
              <a:srgbClr val="3399ff"/>
            </a:solidFill>
            <a:ln w="25560">
              <a:solidFill>
                <a:srgbClr val="236f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Franklin Gothic Book"/>
                </a:rPr>
                <a:t>Спектры излучения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Группа 37"/>
            <p:cNvGrpSpPr/>
            <p:nvPr/>
          </p:nvGrpSpPr>
          <p:grpSpPr>
            <a:xfrm>
              <a:off x="395280" y="2127240"/>
              <a:ext cx="8429760" cy="1142640"/>
              <a:chOff x="395280" y="2127240"/>
              <a:chExt cx="8429760" cy="1142640"/>
            </a:xfrm>
          </p:grpSpPr>
          <p:sp>
            <p:nvSpPr>
              <p:cNvPr id="90" name="Прямоугольник 6"/>
              <p:cNvSpPr/>
              <p:nvPr/>
            </p:nvSpPr>
            <p:spPr>
              <a:xfrm>
                <a:off x="395280" y="2555640"/>
                <a:ext cx="2357280" cy="714240"/>
              </a:xfrm>
              <a:prstGeom prst="rect">
                <a:avLst/>
              </a:prstGeom>
              <a:solidFill>
                <a:srgbClr val="3399ff"/>
              </a:solidFill>
              <a:ln w="25560">
                <a:solidFill>
                  <a:srgbClr val="23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Franklin Gothic Book"/>
                  </a:rPr>
                  <a:t>Непрерывны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Прямоугольник 7"/>
              <p:cNvSpPr/>
              <p:nvPr/>
            </p:nvSpPr>
            <p:spPr>
              <a:xfrm>
                <a:off x="3467160" y="2555640"/>
                <a:ext cx="2357280" cy="714240"/>
              </a:xfrm>
              <a:prstGeom prst="rect">
                <a:avLst/>
              </a:prstGeom>
              <a:solidFill>
                <a:srgbClr val="3399ff"/>
              </a:solidFill>
              <a:ln w="25560">
                <a:solidFill>
                  <a:srgbClr val="23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Franklin Gothic Book"/>
                  </a:rPr>
                  <a:t>Линейчаты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8"/>
              <p:cNvSpPr/>
              <p:nvPr/>
            </p:nvSpPr>
            <p:spPr>
              <a:xfrm>
                <a:off x="6467760" y="2555640"/>
                <a:ext cx="2357280" cy="714240"/>
              </a:xfrm>
              <a:prstGeom prst="rect">
                <a:avLst/>
              </a:prstGeom>
              <a:solidFill>
                <a:srgbClr val="3399ff"/>
              </a:solidFill>
              <a:ln w="25560">
                <a:solidFill>
                  <a:srgbClr val="236f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ff0000"/>
                    </a:solidFill>
                    <a:latin typeface="Franklin Gothic Book"/>
                  </a:rPr>
                  <a:t>Полосатые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93" name="Прямая со стрелкой 21"/>
              <p:cNvCxnSpPr/>
              <p:nvPr/>
            </p:nvCxnSpPr>
            <p:spPr>
              <a:xfrm flipH="1">
                <a:off x="1572840" y="2127240"/>
                <a:ext cx="2160" cy="429120"/>
              </a:xfrm>
              <a:prstGeom prst="straightConnector1">
                <a:avLst/>
              </a:prstGeom>
              <a:ln w="34920">
                <a:solidFill>
                  <a:srgbClr val="2d95fe"/>
                </a:solidFill>
                <a:miter/>
                <a:tailEnd len="med" type="arrow" w="med"/>
              </a:ln>
            </p:spPr>
          </p:cxnSp>
          <p:cxnSp>
            <p:nvCxnSpPr>
              <p:cNvPr id="94" name="Прямая со стрелкой 27"/>
              <p:cNvCxnSpPr/>
              <p:nvPr/>
            </p:nvCxnSpPr>
            <p:spPr>
              <a:xfrm flipH="1">
                <a:off x="4644720" y="2127240"/>
                <a:ext cx="2160" cy="429120"/>
              </a:xfrm>
              <a:prstGeom prst="straightConnector1">
                <a:avLst/>
              </a:prstGeom>
              <a:ln w="34920">
                <a:solidFill>
                  <a:srgbClr val="2d95fe"/>
                </a:solidFill>
                <a:miter/>
                <a:tailEnd len="med" type="arrow" w="med"/>
              </a:ln>
            </p:spPr>
          </p:cxnSp>
          <p:cxnSp>
            <p:nvCxnSpPr>
              <p:cNvPr id="95" name="Прямая со стрелкой 28"/>
              <p:cNvCxnSpPr/>
              <p:nvPr/>
            </p:nvCxnSpPr>
            <p:spPr>
              <a:xfrm flipH="1">
                <a:off x="7645320" y="2127240"/>
                <a:ext cx="2160" cy="429120"/>
              </a:xfrm>
              <a:prstGeom prst="straightConnector1">
                <a:avLst/>
              </a:prstGeom>
              <a:ln w="34920">
                <a:solidFill>
                  <a:srgbClr val="2d95fe"/>
                </a:solidFill>
                <a:miter/>
                <a:tailEnd len="med" type="arrow" w="med"/>
              </a:ln>
            </p:spPr>
          </p:cxnSp>
          <p:sp>
            <p:nvSpPr>
              <p:cNvPr id="96" name="Прямая соединительная линия 30"/>
              <p:cNvSpPr/>
              <p:nvPr/>
            </p:nvSpPr>
            <p:spPr>
              <a:xfrm>
                <a:off x="1547640" y="2127240"/>
                <a:ext cx="6124680" cy="0"/>
              </a:xfrm>
              <a:prstGeom prst="line">
                <a:avLst/>
              </a:prstGeom>
              <a:ln w="34920">
                <a:solidFill>
                  <a:srgbClr val="2d95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Прямая соединительная линия 39"/>
            <p:cNvSpPr/>
            <p:nvPr/>
          </p:nvSpPr>
          <p:spPr>
            <a:xfrm flipV="1">
              <a:off x="4654440" y="1912320"/>
              <a:ext cx="0" cy="214200"/>
            </a:xfrm>
            <a:prstGeom prst="line">
              <a:avLst/>
            </a:prstGeom>
            <a:ln w="34920">
              <a:solidFill>
                <a:srgbClr val="2d95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428760" y="3500280"/>
            <a:ext cx="2357280" cy="2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500280" y="3500280"/>
            <a:ext cx="2357640" cy="28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6500880" y="3500280"/>
            <a:ext cx="2340000" cy="2890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3"/>
          <p:cNvSpPr/>
          <p:nvPr/>
        </p:nvSpPr>
        <p:spPr>
          <a:xfrm>
            <a:off x="428760" y="392904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е энергии по часто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пектральная плотность интенсивности излуч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Рисунок 42" descr="Сплошной спектр.gif"/>
          <p:cNvPicPr/>
          <p:nvPr/>
        </p:nvPicPr>
        <p:blipFill>
          <a:blip r:embed="rId4"/>
          <a:stretch/>
        </p:blipFill>
        <p:spPr>
          <a:xfrm>
            <a:off x="428760" y="4714920"/>
            <a:ext cx="23540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3" name="Рисунок 43" descr="Линейчатый спектр.gif"/>
          <p:cNvPicPr/>
          <p:nvPr/>
        </p:nvPicPr>
        <p:blipFill>
          <a:blip r:embed="rId5"/>
          <a:stretch/>
        </p:blipFill>
        <p:spPr>
          <a:xfrm>
            <a:off x="3500280" y="4714920"/>
            <a:ext cx="2357640" cy="1573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Рисунок 44" descr="Полосатый спектр.gif"/>
          <p:cNvPicPr/>
          <p:nvPr/>
        </p:nvPicPr>
        <p:blipFill>
          <a:blip r:embed="rId6"/>
          <a:stretch/>
        </p:blipFill>
        <p:spPr>
          <a:xfrm>
            <a:off x="6483240" y="4714920"/>
            <a:ext cx="2384640" cy="1571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26640" cy="100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6" name="Rectangle 5"/>
          <p:cNvSpPr/>
          <p:nvPr/>
        </p:nvSpPr>
        <p:spPr>
          <a:xfrm>
            <a:off x="179280" y="234936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ют тела, находящиеся в твердом, жидком состоянии, а также плотные га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бы получить, надо нагреть тело до высокой темпера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спектра зависит не только от свойств отдельных излучающих атомов, но и от взаимодействия атомов друг с дру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спектре представлены волны всех длин и нет разрыв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прерывный спектр цветов можно наблюдать на дифракционной решетке. Хорошей демонстрацией спектра является природное явление раду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5796000" y="2708280"/>
            <a:ext cx="2638440" cy="3970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епрерывный спектр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Линейчатый спектр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0" y="1341360"/>
            <a:ext cx="8640720" cy="10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1" name="TextBox 5"/>
          <p:cNvSpPr/>
          <p:nvPr/>
        </p:nvSpPr>
        <p:spPr>
          <a:xfrm>
            <a:off x="179280" y="27082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ют все вещества в газообразном атомарном (но не молекулярном) состоянии (атомы практически не взаимодействуют друг с друг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лированные атомы данного химического элемента излучают волны строго определенной дл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наблюдения используют свечение паров вещества в пламени или свечение газового разряда в трубке, наполненной исследуемым газ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увеличении плотности атомарного газа отдельные спектральные линии расширяю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сатый спектр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126280" cy="10033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250920" y="29973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ектр состоит из отдельных полос, разделенных темными промежут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олоса представляет собой совокупность большого числа очень тесно расположенных ли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ются молекулами, не связанными или слабосвязанными друг с дру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наблюдения используют свечение паров в пламени или свечение газового разря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ектры излучения и поглощения одного и того же вещества по расположению линий совпадают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4" descr="9"/>
          <p:cNvPicPr/>
          <p:nvPr/>
        </p:nvPicPr>
        <p:blipFill>
          <a:blip r:embed="rId1"/>
          <a:srcRect l="0" t="3238" r="0" b="5002"/>
          <a:stretch/>
        </p:blipFill>
        <p:spPr>
          <a:xfrm>
            <a:off x="1643040" y="2500200"/>
            <a:ext cx="5977080" cy="4113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ласти применения спектрального анализ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548316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ашиностро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ограф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е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Биоло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Астрофиз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c000"/>
                </a:solidFill>
                <a:uFillTx/>
                <a:latin typeface="Arial"/>
              </a:rPr>
              <a:t>Медиц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еталлург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8"/>
          <p:cNvPicPr/>
          <p:nvPr/>
        </p:nvPicPr>
        <p:blipFill>
          <a:blip r:embed="rId1"/>
          <a:stretch/>
        </p:blipFill>
        <p:spPr>
          <a:xfrm>
            <a:off x="4253040" y="2997360"/>
            <a:ext cx="4890960" cy="366840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в конец 4">
            <a:hlinkClick r:id="" action="ppaction://hlinkshowjump?jump=lastslide"/>
          </p:cNvPr>
          <p:cNvSpPr/>
          <p:nvPr/>
        </p:nvSpPr>
        <p:spPr>
          <a:xfrm>
            <a:off x="8215200" y="600084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14306" y="10800"/>
                </a:moveTo>
                <a:lnTo>
                  <a:pt x="3800" y="17806"/>
                </a:lnTo>
                <a:lnTo>
                  <a:pt x="3800" y="3794"/>
                </a:lnTo>
                <a:close/>
              </a:path>
              <a:path fill="darken" w="21614" h="21600">
                <a:moveTo>
                  <a:pt x="16151" y="3794"/>
                </a:moveTo>
                <a:lnTo>
                  <a:pt x="16151" y="17806"/>
                </a:lnTo>
                <a:lnTo>
                  <a:pt x="17813" y="17806"/>
                </a:lnTo>
                <a:lnTo>
                  <a:pt x="17813" y="379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219280" y="277920"/>
            <a:ext cx="3467160" cy="271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учение спектрально-двойных звёзд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0040" y="32857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сли плоскость вращения звёзд лежит в плоскости луча зрения, то спектральные линии, согласно эффекту Доплера, периодически смещаются то в сторону красного, то в сторону синего конца спектра. Период и скорость смещения позволяют оценить основные характеристики звёздной па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спектр дв"/>
          <p:cNvPicPr/>
          <p:nvPr/>
        </p:nvPicPr>
        <p:blipFill>
          <a:blip r:embed="rId1"/>
          <a:stretch/>
        </p:blipFill>
        <p:spPr>
          <a:xfrm>
            <a:off x="285840" y="214200"/>
            <a:ext cx="4968720" cy="287820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возврат 5"/>
          <p:cNvSpPr/>
          <p:nvPr/>
        </p:nvSpPr>
        <p:spPr>
          <a:xfrm>
            <a:off x="8001000" y="6000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4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6-конечная звезда 8"/>
          <p:cNvSpPr/>
          <p:nvPr/>
        </p:nvSpPr>
        <p:spPr>
          <a:xfrm>
            <a:off x="6000840" y="2571840"/>
            <a:ext cx="500040" cy="500040"/>
          </a:xfrm>
          <a:prstGeom prst="pie">
            <a:avLst/>
          </a:prstGeom>
          <a:solidFill>
            <a:srgbClr val="ff0000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7640" y="1267920"/>
            <a:ext cx="4465440" cy="15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ДИЦИНСКИЙ ДИХРОГРАФ «ОНКОТЕСТ»</a:t>
            </a: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9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бор предназначен для раннего обнаружения рака и предраковых состояний путем оптического экспресс-анализа различных фракций кров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Медицинский дихрограф " descr="Медицинский дихрограф 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9420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возврат 4"/>
          <p:cNvSpPr/>
          <p:nvPr/>
        </p:nvSpPr>
        <p:spPr>
          <a:xfrm>
            <a:off x="8072280" y="5929200"/>
            <a:ext cx="500400" cy="428760"/>
          </a:xfrm>
          <a:custGeom>
            <a:avLst/>
            <a:gdLst>
              <a:gd name="textAreaLeft" fmla="*/ 27720 w 500400"/>
              <a:gd name="textAreaRight" fmla="*/ 472680 w 500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206" h="21600">
                <a:moveTo>
                  <a:pt x="0" y="0"/>
                </a:moveTo>
                <a:lnTo>
                  <a:pt x="25206" y="0"/>
                </a:lnTo>
                <a:lnTo>
                  <a:pt x="25206" y="21600"/>
                </a:lnTo>
                <a:lnTo>
                  <a:pt x="0" y="21600"/>
                </a:lnTo>
                <a:close/>
              </a:path>
              <a:path fill="lightenLess" w="25206" h="21600">
                <a:moveTo>
                  <a:pt x="0" y="0"/>
                </a:moveTo>
                <a:lnTo>
                  <a:pt x="25206" y="0"/>
                </a:lnTo>
                <a:lnTo>
                  <a:pt x="23806" y="1400"/>
                </a:lnTo>
                <a:lnTo>
                  <a:pt x="1400" y="1400"/>
                </a:lnTo>
                <a:close/>
              </a:path>
              <a:path fill="darken" w="25206" h="21600">
                <a:moveTo>
                  <a:pt x="25206" y="0"/>
                </a:moveTo>
                <a:lnTo>
                  <a:pt x="25206" y="21600"/>
                </a:lnTo>
                <a:lnTo>
                  <a:pt x="23806" y="20200"/>
                </a:lnTo>
                <a:lnTo>
                  <a:pt x="23806" y="1400"/>
                </a:lnTo>
                <a:close/>
              </a:path>
              <a:path fill="darkenLess" w="25206" h="21600">
                <a:moveTo>
                  <a:pt x="25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6" y="20200"/>
                </a:lnTo>
                <a:close/>
              </a:path>
              <a:path fill="lighten" w="25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6" h="21600">
                <a:moveTo>
                  <a:pt x="5597" y="7493"/>
                </a:moveTo>
                <a:lnTo>
                  <a:pt x="9104" y="7493"/>
                </a:lnTo>
                <a:lnTo>
                  <a:pt x="9104" y="12828"/>
                </a:lnTo>
                <a:cubicBezTo>
                  <a:pt x="9104" y="13751"/>
                  <a:pt x="9905" y="14482"/>
                  <a:pt x="10941" y="14482"/>
                </a:cubicBezTo>
                <a:lnTo>
                  <a:pt x="12603" y="14482"/>
                </a:lnTo>
                <a:cubicBezTo>
                  <a:pt x="13639" y="14482"/>
                  <a:pt x="14440" y="13751"/>
                  <a:pt x="14440" y="12828"/>
                </a:cubicBezTo>
                <a:lnTo>
                  <a:pt x="14440" y="7493"/>
                </a:lnTo>
                <a:lnTo>
                  <a:pt x="12603" y="7493"/>
                </a:lnTo>
                <a:lnTo>
                  <a:pt x="16111" y="3985"/>
                </a:lnTo>
                <a:lnTo>
                  <a:pt x="19784" y="7493"/>
                </a:lnTo>
                <a:lnTo>
                  <a:pt x="17947" y="7493"/>
                </a:lnTo>
                <a:lnTo>
                  <a:pt x="17947" y="12828"/>
                </a:lnTo>
                <a:cubicBezTo>
                  <a:pt x="17947" y="15596"/>
                  <a:pt x="15371" y="18155"/>
                  <a:pt x="12603" y="18155"/>
                </a:cubicBezTo>
                <a:lnTo>
                  <a:pt x="10941" y="18155"/>
                </a:lnTo>
                <a:cubicBezTo>
                  <a:pt x="8173" y="18155"/>
                  <a:pt x="5597" y="15596"/>
                  <a:pt x="5597" y="12828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7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b011"/>
                </a:solidFill>
                <a:latin typeface="Arial Black"/>
              </a:rPr>
              <a:t>СПЕКТРАЛЬНЫЙ </a:t>
            </a:r>
            <a:br>
              <a:rPr sz="5400"/>
            </a:br>
            <a:r>
              <a:rPr b="0" lang="ru-RU" sz="5400" spc="-1" strike="noStrike">
                <a:solidFill>
                  <a:srgbClr val="ffb011"/>
                </a:solidFill>
                <a:latin typeface="Arial Black"/>
              </a:rPr>
              <a:t>АНАЛИЗ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42960" y="714240"/>
          <a:ext cx="8143920" cy="4486320"/>
        </p:xfrm>
        <a:graphic>
          <a:graphicData uri="http://schemas.openxmlformats.org/drawingml/2006/table">
            <a:tbl>
              <a:tblPr/>
              <a:tblGrid>
                <a:gridCol w="8143920"/>
              </a:tblGrid>
              <a:tr h="44863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машиностроении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и материаловедении для: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- входного контроля состава металлических, керамических, композиционных материалов, в том числе и на соот­ветствие ГОСТ, ТУ;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- определения состава пленок и покрытий; </a:t>
                      </a:r>
                      <a:br>
                        <a:rPr sz="2800"/>
                      </a:br>
                      <a:r>
                        <a:rPr b="1" lang="ru-RU" sz="28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- определения состава продуктов коррозионных отложений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выбираем профессию вместе.jpg"/>
          <p:cNvPicPr/>
          <p:nvPr/>
        </p:nvPicPr>
        <p:blipFill>
          <a:blip r:embed="rId1"/>
          <a:stretch/>
        </p:blipFill>
        <p:spPr>
          <a:xfrm>
            <a:off x="6004080" y="4714920"/>
            <a:ext cx="2739960" cy="1952640"/>
          </a:xfrm>
          <a:prstGeom prst="rect">
            <a:avLst/>
          </a:prstGeom>
          <a:ln w="0">
            <a:noFill/>
          </a:ln>
        </p:spPr>
      </p:pic>
      <p:sp>
        <p:nvSpPr>
          <p:cNvPr id="132" name="Управляющая кнопка: возврат 3"/>
          <p:cNvSpPr/>
          <p:nvPr/>
        </p:nvSpPr>
        <p:spPr>
          <a:xfrm>
            <a:off x="4572000" y="585792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  <a:path fill="darken" w="21600" h="25188">
                <a:moveTo>
                  <a:pt x="3794" y="9287"/>
                </a:moveTo>
                <a:lnTo>
                  <a:pt x="7301" y="9287"/>
                </a:lnTo>
                <a:lnTo>
                  <a:pt x="7301" y="14622"/>
                </a:lnTo>
                <a:cubicBezTo>
                  <a:pt x="7301" y="15545"/>
                  <a:pt x="8102" y="16276"/>
                  <a:pt x="9138" y="16276"/>
                </a:cubicBezTo>
                <a:lnTo>
                  <a:pt x="10800" y="16276"/>
                </a:lnTo>
                <a:cubicBezTo>
                  <a:pt x="11836" y="16276"/>
                  <a:pt x="12636" y="15545"/>
                  <a:pt x="12636" y="14622"/>
                </a:cubicBezTo>
                <a:lnTo>
                  <a:pt x="12636" y="9287"/>
                </a:lnTo>
                <a:lnTo>
                  <a:pt x="10800" y="9287"/>
                </a:lnTo>
                <a:lnTo>
                  <a:pt x="14308" y="5779"/>
                </a:lnTo>
                <a:lnTo>
                  <a:pt x="17981" y="9287"/>
                </a:lnTo>
                <a:lnTo>
                  <a:pt x="16144" y="9287"/>
                </a:lnTo>
                <a:lnTo>
                  <a:pt x="16144" y="14622"/>
                </a:lnTo>
                <a:cubicBezTo>
                  <a:pt x="16144" y="17390"/>
                  <a:pt x="13568" y="19949"/>
                  <a:pt x="10800" y="19949"/>
                </a:cubicBezTo>
                <a:lnTo>
                  <a:pt x="9138" y="19949"/>
                </a:lnTo>
                <a:cubicBezTo>
                  <a:pt x="6370" y="19949"/>
                  <a:pt x="3794" y="17390"/>
                  <a:pt x="3794" y="14622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897280"/>
            <a:ext cx="914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едназначен для быстрого визуального качественного и сравнительного количественного спектрального анализа черных и цветных сплавов в видимой области спект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Стилоскоп может быть использован при контроле материала, пунктах сортировки металлического лома, экспресс-лабораториях литейных цехов, в научно-исследовательских лаборатория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стилоскоп"/>
          <p:cNvPicPr/>
          <p:nvPr/>
        </p:nvPicPr>
        <p:blipFill>
          <a:blip r:embed="rId1"/>
          <a:stretch/>
        </p:blipFill>
        <p:spPr>
          <a:xfrm>
            <a:off x="214200" y="285840"/>
            <a:ext cx="5023080" cy="257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071680" y="500040"/>
            <a:ext cx="407196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илоскоп универсальный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Управляющая кнопка: возврат 4"/>
          <p:cNvSpPr/>
          <p:nvPr/>
        </p:nvSpPr>
        <p:spPr>
          <a:xfrm>
            <a:off x="8143920" y="3571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7493"/>
                </a:moveTo>
                <a:lnTo>
                  <a:pt x="9095" y="7493"/>
                </a:lnTo>
                <a:lnTo>
                  <a:pt x="9095" y="12828"/>
                </a:lnTo>
                <a:cubicBezTo>
                  <a:pt x="9095" y="13751"/>
                  <a:pt x="9896" y="14482"/>
                  <a:pt x="10932" y="14482"/>
                </a:cubicBezTo>
                <a:lnTo>
                  <a:pt x="12594" y="14482"/>
                </a:lnTo>
                <a:cubicBezTo>
                  <a:pt x="13630" y="14482"/>
                  <a:pt x="14430" y="13751"/>
                  <a:pt x="14430" y="12828"/>
                </a:cubicBezTo>
                <a:lnTo>
                  <a:pt x="14430" y="7493"/>
                </a:lnTo>
                <a:lnTo>
                  <a:pt x="12594" y="7493"/>
                </a:lnTo>
                <a:lnTo>
                  <a:pt x="16102" y="3985"/>
                </a:lnTo>
                <a:lnTo>
                  <a:pt x="19775" y="7493"/>
                </a:lnTo>
                <a:lnTo>
                  <a:pt x="17938" y="7493"/>
                </a:lnTo>
                <a:lnTo>
                  <a:pt x="17938" y="12828"/>
                </a:lnTo>
                <a:cubicBezTo>
                  <a:pt x="17938" y="15596"/>
                  <a:pt x="15362" y="18155"/>
                  <a:pt x="12594" y="18155"/>
                </a:cubicBezTo>
                <a:lnTo>
                  <a:pt x="10932" y="18155"/>
                </a:lnTo>
                <a:cubicBezTo>
                  <a:pt x="8164" y="18155"/>
                  <a:pt x="5587" y="15596"/>
                  <a:pt x="5587" y="12828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462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laser2.jpg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Группа 17"/>
          <p:cNvGrpSpPr/>
          <p:nvPr/>
        </p:nvGrpSpPr>
        <p:grpSpPr>
          <a:xfrm>
            <a:off x="-214200" y="-393840"/>
            <a:ext cx="9501120" cy="7466040"/>
            <a:chOff x="-214200" y="-393840"/>
            <a:chExt cx="9501120" cy="7466040"/>
          </a:xfrm>
        </p:grpSpPr>
        <p:sp>
          <p:nvSpPr>
            <p:cNvPr id="139" name="Прямоугольник 13"/>
            <p:cNvSpPr/>
            <p:nvPr/>
          </p:nvSpPr>
          <p:spPr>
            <a:xfrm>
              <a:off x="-214200" y="-393840"/>
              <a:ext cx="9501120" cy="89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Прямоугольник 14"/>
            <p:cNvSpPr/>
            <p:nvPr/>
          </p:nvSpPr>
          <p:spPr>
            <a:xfrm>
              <a:off x="-214200" y="356760"/>
              <a:ext cx="571320" cy="650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Прямоугольник 15"/>
            <p:cNvSpPr/>
            <p:nvPr/>
          </p:nvSpPr>
          <p:spPr>
            <a:xfrm>
              <a:off x="8715600" y="428400"/>
              <a:ext cx="428400" cy="6643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Прямоугольник 16"/>
            <p:cNvSpPr/>
            <p:nvPr/>
          </p:nvSpPr>
          <p:spPr>
            <a:xfrm>
              <a:off x="214200" y="6215040"/>
              <a:ext cx="8929800" cy="6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так, спектральный анализ применяется почти во всех важнейших сферах человеческой деятельности. Таким образом спектральный анализ является одним из важнейших аспектов развития не только научного прогресса, но и самого уровня жизн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referat.resurs.kz/ref/spektri-spektralniy-analiz-i-ego-primenenie/3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http://works.tarefer.ru/89/100389/index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ловарь научных термин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ктральный анализ является основой изучения окружающего мира. Только разложив сложный объект или явление на простые составляющие, можно его понять. Это суть спектрального анализа. Спектральный анализ используется в астрономии, физике, химии, радиотехнике, акустике, криптологии и других наук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51672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Объект исследования: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586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тественные нау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9640" y="2492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66"/>
                </a:solidFill>
                <a:latin typeface="Arial"/>
              </a:rPr>
              <a:t>Предмет исследования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755640" y="35002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ктральный анал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Гипотез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ектральн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лиз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рогрессирует не только науку, но и общественную сферу человеческой де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Цель проект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исследования с целью познания сущности спектрального анал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ить литературу по данной тем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, что представляет собой спектральный анализ и что с ним связ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ет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есные (анализ источников, сравнение, обобщение, систематизац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ктичес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7920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сновная час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549000"/>
            <a:ext cx="84963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ектральный анализ – метод определения химического состава вещества по его спектру. Разработан в 1859 году немецкими учеными Г. Р. Кирхгофом и Р. В. Бунзе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58444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8" name="Text Box 5"/>
          <p:cNvSpPr/>
          <p:nvPr/>
        </p:nvSpPr>
        <p:spPr>
          <a:xfrm>
            <a:off x="468360" y="59421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Вильгельм Бунз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11 - 18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rcRect l="14593" t="0" r="14593" b="0"/>
          <a:stretch/>
        </p:blipFill>
        <p:spPr>
          <a:xfrm>
            <a:off x="5219640" y="2349360"/>
            <a:ext cx="2479680" cy="3500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Text Box 7"/>
          <p:cNvSpPr/>
          <p:nvPr/>
        </p:nvSpPr>
        <p:spPr>
          <a:xfrm>
            <a:off x="5219640" y="6021360"/>
            <a:ext cx="280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став Роберт Кирхго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24 - 18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8:34:03Z</dcterms:created>
  <dc:creator>кобра</dc:creator>
  <dc:description/>
  <dc:language>en-US</dc:language>
  <cp:lastModifiedBy>Учитель</cp:lastModifiedBy>
  <dcterms:modified xsi:type="dcterms:W3CDTF">2012-01-25T06:53:16Z</dcterms:modified>
  <cp:revision>35</cp:revision>
  <dc:subject/>
  <dc:title>СПЕКТРЫ И СПЕКТРАЛЬНЫЙ  АНАЛИЗ</dc:title>
</cp:coreProperties>
</file>