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E489D-0F2B-441A-8CD0-20017F74321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C430E-B1EF-468A-9F69-40FF5EBE1E41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44C0-4464-47F7-B5D5-5E30E9353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A4A1-3D1E-4C73-A772-51529A397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E2AB-F55B-48DC-A939-CC44EEFC8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9A6B-D904-48D0-B3F2-80139A4B0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42E7-6C25-43C9-81A5-8BBFDF390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C7BE-3D95-4978-9760-8B1DAE69A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7222-DEA0-49E9-B5AD-0D1049DA2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4599-5F74-4A07-9812-D038D801D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9367-866D-450C-825B-D4706919A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6850-88C5-489D-85F3-9287C8C84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9151-BF34-4029-B2B4-1059AB17D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BF83-2AFD-4C93-9FDA-FC6BA4A81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A2D93-867F-4F8E-97B3-DA33924871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1116000" y="1125360"/>
            <a:ext cx="6912000" cy="90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Радиоволны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012000" y="5229360"/>
            <a:ext cx="29541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Выполнила: ученица 10 А Гранаткина Д.</a:t>
            </a:r>
            <a:endParaRPr b="0" lang="en-US" sz="16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роверила Солдатова Г.</a:t>
            </a:r>
            <a:endParaRPr b="0" lang="en-US" sz="16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24000" y="0"/>
            <a:ext cx="8604000" cy="60213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684360" y="6308640"/>
            <a:ext cx="734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Распространение радиоволн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95280" y="4653000"/>
            <a:ext cx="8424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Ультракороткие волны почти не могут огибать земной шар и распространяются главным образом в пределах прямой видимости, то есть при отсутствии каких-либо препятствий между передающей и приемной антеннами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Ультракороткие волны являются единственно пригодными для телевизионного вещания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867564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68360" y="260280"/>
            <a:ext cx="8137440" cy="223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а́дио — разновидность беспроводной связи, при которой в качестве носителя сигнала используются 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радиоволны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, ,свободно распространяемые в пространстве.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403280" y="1628640"/>
            <a:ext cx="6408720" cy="48070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619280" y="6461280"/>
            <a:ext cx="59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Любительская коротковолновая радиостанция.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684360" y="260280"/>
            <a:ext cx="7272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Принцип радиосвязи заключается в том,  что созданный электрический ток высокой частоты, созданный в передающей антенне, вызывает в окружающем пространстве быстроменяющееся электромагнитное поле, которое распространяется в виде электромагнитной волны.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611280" y="2076480"/>
            <a:ext cx="795312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84360" y="1773360"/>
            <a:ext cx="7848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836640"/>
            <a:ext cx="298764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Например, радиоволны применяют в радиолокации. Благодаря подобным устройствам мы можем наблюдать предметы на большом расстоянии, их ещё называют гидролокаторы. В повседневной жизни мы также часто встречаемся с такими устройствами. Например, радар у милиционера, который направляет его на машины, чтобы измерить её скорост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843280" y="836640"/>
            <a:ext cx="7056360" cy="54291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2556000" y="0"/>
            <a:ext cx="475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Применение радиовол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763640" y="2492280"/>
            <a:ext cx="66247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1484280"/>
            <a:ext cx="464328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Миллиметровое излучение в медицине(КВЧ-терапия) одновременно является и сверхвысокочастотными радиоволнами и инфракрасным тепловым излучением малой интенсивности. Вибраторы, создающие и излучающие радиоволны, это отдельные молекулы и атомы в клетках нашего организма. Сегодння миллиметровые радиоволны в медицине успешно применяются уже в 38 странах мира. Этот метод по эффективности значительно превышает все остальные существующие методы в борьбе за сохранение здоровья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705200" y="1484280"/>
            <a:ext cx="4438800" cy="4181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556000" y="260280"/>
            <a:ext cx="54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Применение  в медицине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907920"/>
            <a:ext cx="27003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первые идея радара пришла в голову немецкому изобретателю Хюльсмайеру, который в 1905 году получил патент на устройство, в котором эффект отражения радиоволн использовался для обнаружения кораблей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700360" y="765000"/>
            <a:ext cx="644364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Источники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http://www.radioscanner.ru/info/article6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http://radiovolna.nn.ru/use/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http://twogalaxy.narod.ru/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http://www.microfa.ru/index.php/homepage/mediko-biologicheskij-aspekt-mrt-terapi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 настоящее время, когда прогресс не стоит на месте, постоянно усовершенствуется бытовая техника и вместе с этим в нашу жизнь входят новые бытовые приборы. К таким приборам можно отнести сотовые телефоны, спутниковое телевидение, микроволновые печи, лечебная аппаратура, а вместе с ними в нашу жизнь вошли радиоволны.</a:t>
            </a:r>
            <a:br>
              <a:rPr sz="2800"/>
            </a:b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755640" y="476280"/>
            <a:ext cx="583236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ктуальность: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Объект исследования: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2781360"/>
            <a:ext cx="734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Предмет исследования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3860640"/>
            <a:ext cx="5689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042920" y="3716280"/>
            <a:ext cx="51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радиоволны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00000" y="1773360"/>
            <a:ext cx="61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электромагнитные волн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Гипотеза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00000" y="1773360"/>
            <a:ext cx="720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Радиоволнам было найдено разное применение во многих сферах жизнедеятельности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Цель проекта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1280" y="1916280"/>
            <a:ext cx="756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оздать представление о понятии «радиоволны» и понять какую роль они играют в окружающем мир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Задачи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4360" y="2060640"/>
            <a:ext cx="7272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1280" y="2205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формулировать понятие  «радиоволны»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формулировать понятие «Радио»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пределить место радиоволн в науке и жизни современного общества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стория радио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едназначения радиоволн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 какой области применяются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Методы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2276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Словесные (анализ источников, сравнение, обобщение, систематизация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практические 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Эмоционально-личностного стимулирования(убеждение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Основная часть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1628640"/>
            <a:ext cx="7920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50920" y="1844640"/>
            <a:ext cx="85690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20 февраля 1880 г. Дэвид Эдвард Юз в своей лаборатории в Лондоне показывал президенту Королевского общества (академии наук) и двум почетным секретарям, как с помощью простой схемы, содержащей микрофон и телефон, обнаруживать, даже на расстоянии в четверть мили, неизвестные ранее "воздушные электрические волны", создаваемые искровым разрядом. К сожалению, ученые гости не увидели ничего особенного в опытах Юза, объяснив их не тем, что "воздух проводит электрические волны", как говорил Юз, а давно известным явлением электромагнитной индукции. Тщетно Юз демонстрировал коллегам узлы и пучности в открытых им волнах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Обескураженный Юз так и не опубликовал своего открытия. О её вкладе  в открытие радиоволн стало известно гораздо позже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95280" y="620640"/>
            <a:ext cx="439272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Радиоволны – это электромагнитные колебания, распространяющиеся в пространстве со скоростью света (300 000 км/сек). Кстати свет также относится к электромагнитным волнам, что и определяет их весьма схожие свойства (отражение, преломление, затухание и т.п.)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Радиоволны переносят через пространство энергию, излучаемую генератором электромагнитных колебаний. А рождаются они при изменении электрического поля, например, когда через проводник проходит переменный электрический ток или когда через пространство проскакивают искры, т.е. ряд быстро следующих друг за другом импульсов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тока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219640" y="1484280"/>
            <a:ext cx="383688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1T01:02:35Z</dcterms:created>
  <dc:creator>Катя</dc:creator>
  <dc:description/>
  <dc:language>en-US</dc:language>
  <cp:lastModifiedBy>SamLab.ws</cp:lastModifiedBy>
  <dcterms:modified xsi:type="dcterms:W3CDTF">2012-01-24T17:30:24Z</dcterms:modified>
  <cp:revision>12</cp:revision>
  <dc:subject/>
  <dc:title>Синтез искусств в усилении эмоционального воздействия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3</vt:r8>
  </property>
</Properties>
</file>