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5725-D0CB-46C0-B9D5-8798FBE05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C995-0A32-41FB-AAAE-6C2F87EE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710B-622C-48CC-A203-29381CCAF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245C-D3C1-4BFB-ADE7-43BD7C0B1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F751-93A2-471B-8B2D-5F0A773D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F2B7-A782-46E3-B360-FD5C1F35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5F6A-78B5-40C9-8A95-6FE47D4A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06F4-813F-40CC-A7A2-05A0BDD0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D34E-9078-46F3-9529-0DF14815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9DEA-134F-431E-8FAD-5C3A9BDD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D6D0-37E6-40FF-B4E5-0A5D9FE1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40E6-61A7-4899-879A-F71BA4E5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29BE-7208-4C7D-B3F8-1A252B55C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&#1043;&#1086;&#1088;&#1086;&#1076;%20&#1057;&#1072;&#1088;&#1072;&#1085;&#1089;&#1082;.bmp" TargetMode="External"/><Relationship Id="rId2" Type="http://schemas.openxmlformats.org/officeDocument/2006/relationships/hyperlink" Target="file:///&#1056;&#1077;&#1089;&#1087;&#1091;&#1073;&#1083;&#1080;&#1082;&#1072;%20&#1052;&#1086;&#1088;&#1076;&#1086;&#1074;&#1080;&#1103;.bmp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7;&#1072;&#1088;&#1072;&#1085;&#1089;&#1082;" TargetMode="External"/><Relationship Id="rId2" Type="http://schemas.openxmlformats.org/officeDocument/2006/relationships/hyperlink" Target="http://ru.wikipedia.org/wiki/&#1052;&#1086;&#1088;&#1076;&#1086;&#1074;&#1080;&#1103;" TargetMode="External"/><Relationship Id="rId3" Type="http://schemas.openxmlformats.org/officeDocument/2006/relationships/hyperlink" Target="http://ru.wikipedia.org/wiki/&#1058;&#1043;&#1050;-6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9280" y="1052640"/>
            <a:ext cx="40672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бота Саранского ТЭЦ 2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160" y="5084640"/>
            <a:ext cx="385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аботу выполн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ченица 10А кла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остюкова Светлана</a:t>
            </a: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43280" y="765000"/>
            <a:ext cx="4286520" cy="532800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480" y="-42120"/>
            <a:ext cx="376200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cc"/>
                </a:solidFill>
                <a:latin typeface="Arial"/>
              </a:rPr>
              <a:t>РЕЗУЛЬТАТЫ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819720"/>
            <a:ext cx="80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недрение АСКУТ позволило оперативному персоналу решать задачи учёта и контроля на качественно новом уровне за сч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еализация более сложных алгоритмов, которые являются дополнением и детализацией "Правил учёта тепловой энергии и теплоносителя"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беспечение персонала оперативной и учётной информации о параметрах теплоносителей, как по отдельным потребителям, так и по ТЭЦ-2 в цел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Кроме того, распределенная структура АСКУТ обеспечила существенное снижение затрат на кабельную продукц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419640" y="3716280"/>
            <a:ext cx="4603680" cy="29923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p:transition spd="med">
    <p:pull dir="r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124000" y="88200"/>
            <a:ext cx="339588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Arial"/>
              </a:rPr>
              <a:t>ФУНКЦИИ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1195200"/>
            <a:ext cx="70549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автоматический контроль параметр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обнаружение, сигнализация и регистрация отклонений параметров от установленных границ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коммерческий учёт отпуска потребителям тепловой энергии и теплоносителей: пара, сетевой, подпиточной воды, а также артезианской воды во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формирования архивов учётных данных и технологических параметров трубопроводов, а также действий персона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лучение документов по коммерческому учету тепловой энергии и теплоносителей, артезианской холодной во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1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4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986120" y="146880"/>
            <a:ext cx="532260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Arial"/>
              </a:rPr>
              <a:t>ИНФОРМАЦИОННАЯ МОЩ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1155960"/>
            <a:ext cx="89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сего сигналов - 144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налоговых сигналов - 144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Мнемосхем - 197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Трендов -3920СТД, Miltronics - счетчики газа, уровномеры 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И - станция инжинирин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643280" y="2852640"/>
            <a:ext cx="4105440" cy="312264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4327920" y="6235920"/>
            <a:ext cx="4813560" cy="459720"/>
          </a:xfrm>
          <a:prstGeom prst="rect">
            <a:avLst/>
          </a:prstGeom>
          <a:solidFill>
            <a:srgbClr val="808080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00cc"/>
                </a:solidFill>
                <a:latin typeface="Arial"/>
              </a:rPr>
              <a:t>Структурная схема АСКУТ Саранской ТЭЦ2</a:t>
            </a: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42440" y="4320"/>
            <a:ext cx="2811240" cy="947160"/>
          </a:xfrm>
          <a:prstGeom prst="rect">
            <a:avLst/>
          </a:prstGeom>
          <a:solidFill>
            <a:srgbClr val="bbe0e3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cc"/>
                </a:solidFill>
                <a:latin typeface="Arial"/>
              </a:rPr>
              <a:t>КОМПОН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129320"/>
            <a:ext cx="5184720" cy="58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Пакет SCADA "КРУГ-2000", в том числе среда разработки (генератор базы данных, графический редактор, технологический язык и др.) и среда исполнения (исполняемые модули станций оператора и контроллеров, модули учета тепла). Операционная система в контроллерах QNX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Контроллер серии TREI-5B-02 (100% резервирование процессорной части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Станция оператора (2шт) на базе персональных компьютеров со 100% "горячим" резервированием с мониторами 17" и технологическими клавиатура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Станция инжиниринга на базе персонального компьютера представляет собой АРМ инженера службы АСУ ТП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Локальная управляющая сеть Ethernet (100% дублированный "промышленный" Ethernet, витая пара, оптоволокно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Искробезапосные источники питания внешних цепей (от контроллера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Шкафы монтажные (4 шт.) на базе конструктивов RITT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Источники бесперебойного пит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SzPct val="14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148360" y="189000"/>
            <a:ext cx="3090600" cy="31096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772240" y="3068640"/>
            <a:ext cx="3371760" cy="31608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5796000" y="6307920"/>
            <a:ext cx="2843280" cy="398520"/>
          </a:xfrm>
          <a:prstGeom prst="rect">
            <a:avLst/>
          </a:prstGeom>
          <a:solidFill>
            <a:srgbClr val="808080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6600cc"/>
                </a:solidFill>
                <a:latin typeface="Arial"/>
              </a:rPr>
              <a:t>Система сбора и передачи технологической информации </a:t>
            </a:r>
            <a:r>
              <a:rPr b="1" lang="en-US" sz="1000" spc="-1" strike="noStrike">
                <a:solidFill>
                  <a:srgbClr val="6600cc"/>
                </a:solidFill>
                <a:latin typeface="Arial"/>
              </a:rPr>
              <a:t>Саранской</a:t>
            </a:r>
            <a:r>
              <a:rPr b="0" lang="en-US" sz="10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6600cc"/>
                </a:solidFill>
                <a:latin typeface="Arial"/>
              </a:rPr>
              <a:t>ТЭЦ</a:t>
            </a:r>
            <a:r>
              <a:rPr b="0" lang="en-US" sz="1000" spc="-1" strike="noStrike">
                <a:solidFill>
                  <a:srgbClr val="6600cc"/>
                </a:solidFill>
                <a:latin typeface="Arial"/>
              </a:rPr>
              <a:t>-</a:t>
            </a:r>
            <a:r>
              <a:rPr b="1" lang="en-US" sz="10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0" lang="en-US" sz="10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7129800" cy="3745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283640" y="5377320"/>
            <a:ext cx="40471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cc"/>
                </a:solidFill>
                <a:latin typeface="Arial"/>
              </a:rPr>
              <a:t>Взаимосвязи </a:t>
            </a:r>
            <a:r>
              <a:rPr b="1" lang="en-US" sz="1400" spc="-1" strike="noStrike">
                <a:solidFill>
                  <a:srgbClr val="6600cc"/>
                </a:solidFill>
                <a:latin typeface="Arial"/>
              </a:rPr>
              <a:t>Саранской</a:t>
            </a:r>
            <a:r>
              <a:rPr b="0" lang="en-US" sz="1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6600cc"/>
                </a:solidFill>
                <a:latin typeface="Arial"/>
              </a:rPr>
              <a:t>ТЭЦ</a:t>
            </a:r>
            <a:r>
              <a:rPr b="0" lang="en-US" sz="1400" spc="-1" strike="noStrike">
                <a:solidFill>
                  <a:srgbClr val="6600cc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6600cc"/>
                </a:solidFill>
                <a:latin typeface="Arial"/>
              </a:rPr>
              <a:t> и IV очеред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79280" y="-35640"/>
            <a:ext cx="838836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бросы теплоты являются одним из основных факторов взаимодействия теплоэнергетических объектов с окружающей средой, в частности с атмосферой и гидросферой. Выделение происходит на всех стадиях преобразования химической энергии органического вещества или ядерного топлива для выработки тепловой энергии. В результате промышленной деятельности человека в области производства тепловой энергии в окружающей среде наблюдается целый ряд существенных изменений. Вот лишь некоторые из них, особо ощутимы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Наличие частиц, являющихся ядрами конденсации в 10 раз больш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Наличие в воздухе газовых примесей увеличено 5-25 ра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Количество облаков увеличивается на 5-10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Количество туманов зимой на 100% больше, летом на 30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Число осадков в различные периоды года на 5-10% больш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Относительная влажность уменьшена летом на 2%, зимой на 8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 Солнечное излучение уменьшено 3-20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 Температура повышается на 1-2 градуса Цельс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. Скорость ветра 5-30% больше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300960"/>
            <a:ext cx="511344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При сжигании выбросов соединений серы, при сжигании органического топлива, принципиально существуют два подхода: сероочистка дымовых газов и удаление серы из топлива до его сжигания. Существуют следующие методы: известняковый, известковый, двухцикличный щелочной, каталитического окисления, газификации топлив, пиролиз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Снижение выбросов твёрдых частиц с продуктами сгорания ведётся с помощью следующих способов: использование золоуловителей (инерционные или мокрые), тканевых и электрофильтров. Одним из способов снижения вредных воздействий энергоустановки на окружающую среду является совершенствование её тепловых схем, развитие теплофикации (одновременная выработка тепла и энергии), укрупнение установок теплоэнергетики, использование вторичных энергетических ресурсов, внедрение новых термодинамических циклов, развитие систем аккумуляции энергии, использование возобновляемых источников энергии (солнечная, электростанции, геотермальная энергия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148360" y="260280"/>
            <a:ext cx="3995640" cy="467676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5949720" y="5013000"/>
            <a:ext cx="1848240" cy="337320"/>
          </a:xfrm>
          <a:prstGeom prst="rect">
            <a:avLst/>
          </a:prstGeom>
          <a:solidFill>
            <a:srgbClr val="bbe0e3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лектрофильт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135720"/>
            <a:ext cx="572436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На современном этапе проблема взаимодействия энергетики и окружающей среды приобрела новые черты, распространяя влияние на огромные территории, большинство рек и озер, громадные объемы атмо­сферы и гидросферы Земли. Еще более значительные масштабы энергопотребления в обозримом будущем предопределяют дальнейшее интенсивное увеличение разнообразных воздействий на все компоненты окру­жающей среды в глобальных масштаб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Тепловые электростанции (ТЭС) на основе сжигания органического горючего оказывают значительное отрицательное влияние на окружающую среду. С дымовыми газами ТЭС в атмосферу выделяются в большом количестве твердые и газообразные загрязнители опасны окислы серы и азота, двуокись углерода (CO2) и водяные пары . Кроме основных компонентов влияние ТЭЦ состоит в: пылевые частицы различного состава, фтористые соединения, окислы металлов, газообразные продукты неполного сгорания топлива. Их поступление в воздушную среду наносит большой ущерб как всем основным компонентам биосферы, так и предприятиям, объектам городского хозяйства и населению город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651640" y="476280"/>
            <a:ext cx="3348000" cy="5664240"/>
          </a:xfrm>
          <a:prstGeom prst="rect">
            <a:avLst/>
          </a:prstGeom>
          <a:ln w="9360">
            <a:solidFill>
              <a:srgbClr val="33cccc"/>
            </a:solidFill>
            <a:miter/>
          </a:ln>
        </p:spPr>
      </p:pic>
    </p:spTree>
  </p:cSld>
  <p:transition>
    <p:split dir="out" orient="ver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498120" y="2205000"/>
            <a:ext cx="5437080" cy="1068840"/>
          </a:xfrm>
          <a:prstGeom prst="rect">
            <a:avLst/>
          </a:prstGeom>
          <a:solidFill>
            <a:srgbClr val="bbe0e3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cc"/>
                </a:solidFill>
                <a:latin typeface="Arial"/>
              </a:rPr>
              <a:t>Работа Саранского ТЭЦ2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6920" y="3860640"/>
            <a:ext cx="3745080" cy="2565720"/>
          </a:xfrm>
          <a:prstGeom prst="rect">
            <a:avLst/>
          </a:prstGeom>
          <a:ln w="9360">
            <a:solidFill>
              <a:srgbClr val="993366"/>
            </a:solidFill>
            <a:miter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cc"/>
            </a:solidFill>
            <a:miter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бъект 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1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6600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cc"/>
                </a:solidFill>
                <a:latin typeface="Arial"/>
              </a:rPr>
              <a:t>       </a:t>
            </a:r>
            <a:r>
              <a:rPr b="1" i="1" lang="en-US" sz="4400" spc="-1" strike="noStrike">
                <a:solidFill>
                  <a:srgbClr val="ff66cc"/>
                </a:solidFill>
                <a:latin typeface="Arial"/>
              </a:rPr>
              <a:t>Цель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263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ыяснить как работа Саранского ЦЭЦ2 влияет на г.Саранск и его атмосфе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64600"/>
            <a:ext cx="49323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Саранск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– это столица республики Мордовия, основан в 1641 г. Он занимает территорию в 71,5 кв. км, на его территории проживает более 339,4 тыс. чел. В том числе 246.8 тыс. из них русские,69,9 тыс. чел.- мордва(эрзя и мокша)  и 15,8 тыс. чел. – тата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 современном Саранске нет улицы, где бы не велось строительство, а на прилегающих к городу полянах растут и закладываются всё новые и новые корпуса заводов, новые жилые посёлки. «Многочисленные подъёмные краны, строительные леса стали самыми характерными приметами пейзажа современного Саранска» так писал о столице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Республики Мордовия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известный учёный, почётный гражданин города И.Д. Воронин. Это было в 1961 году. С тех пор прошло более 40 лет. Провинциальный городок, как предполагал краевед, превратился в крупный промышленный центр Среднего Поволж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003640" y="333360"/>
            <a:ext cx="3996000" cy="280836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6227640" y="3068640"/>
            <a:ext cx="2460600" cy="350028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</p:spTree>
  </p:cSld>
  <p:transition>
    <p:pull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43280" y="293040"/>
            <a:ext cx="42688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дна из причин интенсивного развития промышленности в Саранске – качественная подготовка квалифицированных кадров. Мордовский государственный университет им. Огарева, основанный в 1957 год, является центральным ядром образования. Это университет, в который наверняка каждый из нас стремиться попасть. В МГУ подготовка осуществляется по 53 специальностям: из которых 17 технические: это и инженерно-строительный, и инженерно-компьютерный, инженер связи, радиотехника, также многим специальностям обучает ФЭТ – все эти профессии связаны с точными науками: физика, информатика, математ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2771640" cy="352728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19280" y="4221000"/>
            <a:ext cx="2857320" cy="2143440"/>
          </a:xfrm>
          <a:prstGeom prst="rect">
            <a:avLst/>
          </a:prstGeom>
          <a:ln w="9360">
            <a:solidFill>
              <a:srgbClr val="00ffff"/>
            </a:solidFill>
            <a:miter/>
          </a:ln>
        </p:spPr>
      </p:pic>
    </p:spTree>
  </p:cSld>
  <p:transition>
    <p:diamond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00000" y="384120"/>
            <a:ext cx="788364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Саранская ТЭЦ-2 — предприятие энергетики, расположенное в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Саранске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(республика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Мордовия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), входящее в состав Мордовского филиала ОАО «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ТГК-6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».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Установленная электрическая мощность 340 МВт. Тепловая мощность 778 Гкал/ча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Основной функцией ТЭЦ является производство и распределение электроэнергии и теплоэнерг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Саранская ТЭЦ-2 запущена в эксплуатацию в декабре 1958 года. Расположена на северной окраине города. В 1993 году на станции была введена в строй опытная промышленная установка по очистке речной воды реки Инсар, на которой расположена ТЭЦ. Станция используется для электроснабжения и горячего водоснабжения жилого сектора и предприятий город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4211640" y="3860640"/>
            <a:ext cx="4660920" cy="278136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611280" y="3429000"/>
            <a:ext cx="3798720" cy="2592360"/>
          </a:xfrm>
          <a:prstGeom prst="rect">
            <a:avLst/>
          </a:prstGeom>
          <a:ln w="9360">
            <a:solidFill>
              <a:srgbClr val="800080"/>
            </a:solidFill>
            <a:miter/>
          </a:ln>
        </p:spPr>
      </p:pic>
    </p:spTree>
  </p:cSld>
  <p:transition>
    <p:diamond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5580000" y="0"/>
            <a:ext cx="3564000" cy="3016080"/>
          </a:xfrm>
          <a:prstGeom prst="rect">
            <a:avLst/>
          </a:prstGeom>
          <a:ln w="9360">
            <a:solidFill>
              <a:srgbClr val="008080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324000" y="537840"/>
            <a:ext cx="42116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Для успешной работы предприятий города Саранска необходимо использовать электрическую энергию, которая вырабатывается тепловой электростанцией ТЭЦ-2, расположенной на территории нашего города. КПД тепловой электростанции 50-60%. Тепловая электростанция- это сложное и обширное хозяйство, занимающее 70 га земли. Станция используется для электроснабжения и горячего водоснабжения жилого сектора и предприятий гор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003640" y="2349360"/>
            <a:ext cx="3851280" cy="23767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572000" y="4714920"/>
            <a:ext cx="2857680" cy="2143080"/>
          </a:xfrm>
          <a:prstGeom prst="rect">
            <a:avLst/>
          </a:prstGeom>
          <a:ln w="6480">
            <a:solidFill>
              <a:srgbClr val="ff6600"/>
            </a:solidFill>
            <a:miter/>
          </a:ln>
        </p:spPr>
      </p:pic>
    </p:spTree>
  </p:cSld>
  <p:transition>
    <p:dissolv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118800"/>
            <a:ext cx="3851280" cy="73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Автоматизированная система коммерческого учёта воды и пара на Саранской ТЭЦ-2, на базе ПТК "КРУГ-2000/Т" (АСКУТ), предназначена для автоматизированного коммерческого учёта и оперативного контроля отпуска тепловой энергии с сетевой водой и паром, как по отдельным внешним потребителям, так и по Саранской ТЭЦ-2 в целом (с учетом потребления сетевой воды на собственные нужды), потребления артезианской и добавочной (речной) во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                      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114800" y="1916280"/>
            <a:ext cx="5029200" cy="322236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  <p:transition>
    <p:wedg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00720" y="335520"/>
            <a:ext cx="39607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овышение информативности, оперативности, надежности, точности, достоверности и снижение трудоёмкости учёта отпуска тепловой энергии и теплоносителей, потребления артезианской и речной воды, представление обслуживающему персоналу и руководству средствами локальной вычислительной сети оперативной и учётной информации о параметрах теплоносителей, архивирование и документирование информации для последующего статистического анализа и прогнозирования нагрузки Саранской ТЭЦ-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97360" y="264600"/>
            <a:ext cx="2864520" cy="947160"/>
          </a:xfrm>
          <a:prstGeom prst="rect">
            <a:avLst/>
          </a:prstGeom>
          <a:solidFill>
            <a:srgbClr val="bbe0e3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cc"/>
                </a:solidFill>
                <a:latin typeface="Arial"/>
              </a:rPr>
              <a:t>ЦЕЛИ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3313440" cy="20559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55640" y="5948280"/>
            <a:ext cx="363708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600cc"/>
                </a:solidFill>
                <a:latin typeface="Arial"/>
              </a:rPr>
              <a:t>Система сбора и передачи информации Саранской ТЭЦ-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79280" y="1628640"/>
            <a:ext cx="2846520" cy="2276640"/>
          </a:xfrm>
          <a:prstGeom prst="rect">
            <a:avLst/>
          </a:prstGeom>
          <a:ln w="9360">
            <a:solidFill>
              <a:srgbClr val="008080"/>
            </a:solidFill>
            <a:miter/>
          </a:ln>
        </p:spPr>
      </p:pic>
    </p:spTree>
  </p:cSld>
  <p:transition>
    <p:wedg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4:28:51Z</dcterms:created>
  <dc:creator>Zver</dc:creator>
  <dc:description>uchportal.ru</dc:description>
  <dc:language>en-US</dc:language>
  <cp:lastModifiedBy>Olya</cp:lastModifiedBy>
  <dcterms:modified xsi:type="dcterms:W3CDTF">2012-01-24T18:28:41Z</dcterms:modified>
  <cp:revision>27</cp:revision>
  <dc:subject/>
  <dc:title>Лермонтов Герой нашего времен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a0a000000000001024140</vt:lpwstr>
  </property>
</Properties>
</file>