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wmf" ContentType="image/x-wmf"/>
  <Override PartName="/ppt/media/image8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wmf" ContentType="image/x-wmf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CB6-26B8-4022-B3A2-4F55A600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E6E-14F1-4BB1-8E8F-EAAA0AE5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53C-B58D-48FD-B2A1-F2CAC0DE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3C0-D37E-4738-BC4E-C5F17B3A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267D-B3E4-4200-9558-27063173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AE91-5929-4911-89B2-1CCEE8E9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412D-8440-4E97-A644-4CBB039F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4F83-C716-4FA5-8294-2BAE2A81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A90D-E6FB-4CB6-B95C-A2BFCD0E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C345-D505-4C9B-8FB5-6D8C78AC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8AAF-B9E2-40A1-A360-9BCD6B7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8E8-202E-4DB8-BC61-5AB80308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463C-D65F-4F00-AB0B-A2915ABD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6E72-6FAD-463E-A72F-06B99DC5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2A1D-B8CF-47B3-B1D4-3D70EBAA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ED92-43C8-48E7-A7F4-43B9D8A9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1781-343A-4005-AD0D-33B19898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429-26A8-4499-BAA3-AD80B14D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3C2-81D1-4D24-BB66-EB260FE7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00F-BC08-455E-9CF7-8EA8CE98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B0E-C483-46DE-A1A2-F5054C65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73B-6CAC-494B-85E8-57202473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E4E-3DA0-46A5-8E98-1704EB75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959-A961-4AD0-9D02-BE1CCAF9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F3C3-1495-4F52-8B46-92AD41EED4B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885A-CF32-4F62-BCBB-593C45A2E25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7;&#1083;&#1086;&#1074;&#1072;&#1103;_&#1101;&#1085;&#1077;&#1088;&#1075;&#1080;&#1103;" TargetMode="External"/><Relationship Id="rId2" Type="http://schemas.openxmlformats.org/officeDocument/2006/relationships/hyperlink" Target="http://ru.wikipedia.org/wiki/&#1052;&#1077;&#1093;&#1072;&#1085;&#1080;&#1095;&#1077;&#1089;&#1082;&#1072;&#1103;_&#1088;&#1072;&#1073;&#1086;&#1090;&#1072;" TargetMode="External"/><Relationship Id="rId3" Type="http://schemas.openxmlformats.org/officeDocument/2006/relationships/hyperlink" Target="http://ru.wikipedia.org/wiki/&#1058;&#1077;&#1087;&#1083;&#1086;&#1074;&#1086;&#1081;_&#1076;&#1074;&#1080;&#1075;&#1072;&#1090;&#1077;&#1083;&#1100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Работы тепловых машин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580920" y="58669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mic Sans MS"/>
              </a:rPr>
              <a:t>         </a:t>
            </a: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Выполнила: ученица 10 А кла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                            </a:t>
            </a: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Ипкаева Гульнар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918320" cy="4122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4491000" cy="3468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124080" y="1752480"/>
            <a:ext cx="5867640" cy="391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. 4"/>
          <p:cNvSpPr/>
          <p:nvPr/>
        </p:nvSpPr>
        <p:spPr>
          <a:xfrm>
            <a:off x="-152280" y="0"/>
            <a:ext cx="94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Первые тепловые двигатели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Прямоуг. 5"/>
          <p:cNvSpPr/>
          <p:nvPr/>
        </p:nvSpPr>
        <p:spPr>
          <a:xfrm>
            <a:off x="3049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то и когда изобрё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9933"/>
                </a:solidFill>
                <a:latin typeface="Arial"/>
              </a:rPr>
              <a:t>Деви Папин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нглийский физик, один из изобретателей парового двигател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1680г.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зобрёл паровой котё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1681г.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набдил его предохранительным клапано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1690г.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использовал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ар для поднятия поршня и описал замкнутый термодинамический цикл парового двигател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1707г.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ставил описание своего двигател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Рисунок 6" descr="Папин"/>
          <p:cNvPicPr/>
          <p:nvPr/>
        </p:nvPicPr>
        <p:blipFill>
          <a:blip r:embed="rId1"/>
          <a:stretch/>
        </p:blipFill>
        <p:spPr>
          <a:xfrm>
            <a:off x="6934320" y="1066680"/>
            <a:ext cx="1968480" cy="25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. 4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Кто и когда построил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Прямоуг. 5"/>
          <p:cNvSpPr/>
          <p:nvPr/>
        </p:nvSpPr>
        <p:spPr>
          <a:xfrm>
            <a:off x="228600" y="1600200"/>
            <a:ext cx="8763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Конец 18 века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–  построены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первые паровые машины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1774 год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– английским изобретателем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Джеймсом Уаттом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построена первая универсальная паровая машин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С 1775 по 1785 г. –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фирмой Уатта построено 56 паровых машин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С 1785 по 1795г. –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той же фирмой поставлено уже 144 такие машин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. 4"/>
          <p:cNvSpPr/>
          <p:nvPr/>
        </p:nvSpPr>
        <p:spPr>
          <a:xfrm>
            <a:off x="22860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Первый паровой автомобиль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Прямоуг. 5"/>
          <p:cNvSpPr/>
          <p:nvPr/>
        </p:nvSpPr>
        <p:spPr>
          <a:xfrm>
            <a:off x="228600" y="160020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Arial"/>
              </a:rPr>
              <a:t>В </a:t>
            </a:r>
            <a:r>
              <a:rPr b="1" i="1" lang="en-US" sz="4000" spc="-1" strike="noStrike">
                <a:solidFill>
                  <a:srgbClr val="eaeaea"/>
                </a:solidFill>
                <a:latin typeface="Arial"/>
              </a:rPr>
              <a:t>1770</a:t>
            </a:r>
            <a:r>
              <a:rPr b="1" i="1" lang="ru-RU" sz="4000" spc="-1" strike="noStrike">
                <a:solidFill>
                  <a:srgbClr val="eaeaea"/>
                </a:solidFill>
                <a:latin typeface="Arial"/>
              </a:rPr>
              <a:t>г. </a:t>
            </a:r>
            <a:r>
              <a:rPr b="0" i="1" lang="ru-RU" sz="4000" spc="-1" strike="noStrike">
                <a:solidFill>
                  <a:srgbClr val="ff9933"/>
                </a:solidFill>
                <a:latin typeface="Arial"/>
              </a:rPr>
              <a:t>Жан Кюньо</a:t>
            </a:r>
            <a:r>
              <a:rPr b="0" i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французский инженер, построил первую самодвижущуюся тележку, предназначенную для передвижения артиллерийских орудий .</a:t>
            </a:r>
            <a:r>
              <a:rPr b="0" i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Рисунок 6" descr="тележка"/>
          <p:cNvPicPr/>
          <p:nvPr/>
        </p:nvPicPr>
        <p:blipFill>
          <a:blip r:embed="rId1"/>
          <a:stretch/>
        </p:blipFill>
        <p:spPr>
          <a:xfrm>
            <a:off x="4495680" y="4424400"/>
            <a:ext cx="3829320" cy="243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. 4"/>
          <p:cNvSpPr/>
          <p:nvPr/>
        </p:nvSpPr>
        <p:spPr>
          <a:xfrm>
            <a:off x="60948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Паровоз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Прямоуг. 5"/>
          <p:cNvSpPr/>
          <p:nvPr/>
        </p:nvSpPr>
        <p:spPr>
          <a:xfrm>
            <a:off x="304920" y="914400"/>
            <a:ext cx="868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В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1803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г.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нглийский изобретатель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ичард Тревитик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конструировал первый паровоз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ерез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 5 лет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Тревитик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построил новый паровоз. Он развивал скорость до 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30 км/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1816г.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 имея поддержки,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Тревитик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разорился и уехал в Южную Амери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4384800" cy="35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. 4"/>
          <p:cNvSpPr/>
          <p:nvPr/>
        </p:nvSpPr>
        <p:spPr>
          <a:xfrm>
            <a:off x="900000" y="-17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Решающая роль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Прямоуг. 5"/>
          <p:cNvSpPr/>
          <p:nvPr/>
        </p:nvSpPr>
        <p:spPr>
          <a:xfrm>
            <a:off x="228600" y="838080"/>
            <a:ext cx="8370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1781-1848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г.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нглийский конструктор и изобретатель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Джордж Стефенсон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1814г. –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чал заниматься строительством паровоз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1823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г.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сновал первый в мире паровозостроительный заво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1829г.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 соревновании лучших локомотивов первое место занял паровоз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Стефенсона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Ракета».Его мощность составляла 13 л.с., а скорость 47 км/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Рисунок 6" descr="060312_133535"/>
          <p:cNvPicPr/>
          <p:nvPr/>
        </p:nvPicPr>
        <p:blipFill>
          <a:blip r:embed="rId1"/>
          <a:stretch/>
        </p:blipFill>
        <p:spPr>
          <a:xfrm>
            <a:off x="4419720" y="3429000"/>
            <a:ext cx="4267080" cy="32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. 4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Двигатель внутреннего сгорания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Прямоуг. 5"/>
          <p:cNvSpPr/>
          <p:nvPr/>
        </p:nvSpPr>
        <p:spPr>
          <a:xfrm>
            <a:off x="0" y="1447920"/>
            <a:ext cx="777240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1860г. -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ранцузским механиком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Ленуаром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был изобретён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двигатель внутреннего сгора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1878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г.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мецким изобретателем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тто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конструирован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четырёхтактный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двигатель внутреннего сгоран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1825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г.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мецким изобретателем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Даймлером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ыл создан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бензиновый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вигатель внутреннего сгора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Примерно в то же время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ензиновый двигатель был разработан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Костовичем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в Росс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Рисунок 7" descr="дизель"/>
          <p:cNvPicPr/>
          <p:nvPr/>
        </p:nvPicPr>
        <p:blipFill>
          <a:blip r:embed="rId1"/>
          <a:stretch/>
        </p:blipFill>
        <p:spPr>
          <a:xfrm>
            <a:off x="4724280" y="4614840"/>
            <a:ext cx="3965760" cy="224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. 4"/>
          <p:cNvSpPr/>
          <p:nvPr/>
        </p:nvSpPr>
        <p:spPr>
          <a:xfrm>
            <a:off x="152280" y="277920"/>
            <a:ext cx="85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Двигатели Дизеля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Прямоуг. 5"/>
          <p:cNvSpPr/>
          <p:nvPr/>
        </p:nvSpPr>
        <p:spPr>
          <a:xfrm>
            <a:off x="0" y="1371600"/>
            <a:ext cx="85993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896г. - Немецкий инженер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удольф Дизель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конструировал двигатель внутреннего сгорания в котором сжималась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не горючая смесь, а возду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о наиболее экономичные тепловые двигатели 1)работают на дешёвых видах топлива 2) имеют КПД 31-44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%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29 сентября 1913г. -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ел на пароход, отправлявшийся в Лондон. Наутро его в каюте не нашли. Считается, что он покончил с собой, бросившись ночью в воды Ла-Манш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Рисунок 6" descr="рудольф Дизель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оле 4"/>
          <p:cNvSpPr/>
          <p:nvPr/>
        </p:nvSpPr>
        <p:spPr>
          <a:xfrm>
            <a:off x="324000" y="620640"/>
            <a:ext cx="8607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Тепловые машины могут быть устроен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различным образом, но в любой теплово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машине должно быть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рабочее вещество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или тело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 которое в рабочей части машины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совершает механическую работу,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греватель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где рабочее вещество получает энергию 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холодильник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отбирающий у рабочего тел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тепло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е 6"/>
          <p:cNvSpPr/>
          <p:nvPr/>
        </p:nvSpPr>
        <p:spPr>
          <a:xfrm>
            <a:off x="457200" y="472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Рабочим веществом может быть  водяной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пар или газ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. 4"/>
          <p:cNvSpPr/>
          <p:nvPr/>
        </p:nvSpPr>
        <p:spPr>
          <a:xfrm>
            <a:off x="1279440" y="1876320"/>
            <a:ext cx="4319640" cy="914400"/>
          </a:xfrm>
          <a:prstGeom prst="rect">
            <a:avLst/>
          </a:prstGeom>
          <a:solidFill>
            <a:srgbClr val="cc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Овал 5"/>
          <p:cNvSpPr/>
          <p:nvPr/>
        </p:nvSpPr>
        <p:spPr>
          <a:xfrm>
            <a:off x="2050920" y="3429000"/>
            <a:ext cx="2737080" cy="148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Рабоче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тел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Прямоуг. 6"/>
          <p:cNvSpPr/>
          <p:nvPr/>
        </p:nvSpPr>
        <p:spPr>
          <a:xfrm>
            <a:off x="1279440" y="5692680"/>
            <a:ext cx="4319640" cy="914400"/>
          </a:xfrm>
          <a:prstGeom prst="rect">
            <a:avLst/>
          </a:prstGeom>
          <a:solidFill>
            <a:srgbClr val="65b2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Автофигура 7"/>
          <p:cNvSpPr/>
          <p:nvPr/>
        </p:nvSpPr>
        <p:spPr>
          <a:xfrm>
            <a:off x="3132000" y="278136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cc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Автофигура 8"/>
          <p:cNvSpPr/>
          <p:nvPr/>
        </p:nvSpPr>
        <p:spPr>
          <a:xfrm>
            <a:off x="3132000" y="4941720"/>
            <a:ext cx="486000" cy="719280"/>
          </a:xfrm>
          <a:prstGeom prst="downArrow">
            <a:avLst>
              <a:gd name="adj1" fmla="val 50000"/>
              <a:gd name="adj2" fmla="val 37000"/>
            </a:avLst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Автофигура 9"/>
          <p:cNvSpPr/>
          <p:nvPr/>
        </p:nvSpPr>
        <p:spPr>
          <a:xfrm>
            <a:off x="4788000" y="3933720"/>
            <a:ext cx="2520720" cy="486000"/>
          </a:xfrm>
          <a:prstGeom prst="rightArrow">
            <a:avLst>
              <a:gd name="adj1" fmla="val 50000"/>
              <a:gd name="adj2" fmla="val 129667"/>
            </a:avLst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Поле 12"/>
          <p:cNvSpPr/>
          <p:nvPr/>
        </p:nvSpPr>
        <p:spPr>
          <a:xfrm>
            <a:off x="2609640" y="2676600"/>
            <a:ext cx="5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Поле 13"/>
          <p:cNvSpPr/>
          <p:nvPr/>
        </p:nvSpPr>
        <p:spPr>
          <a:xfrm>
            <a:off x="2538000" y="4981680"/>
            <a:ext cx="5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Поле 15"/>
          <p:cNvSpPr/>
          <p:nvPr/>
        </p:nvSpPr>
        <p:spPr>
          <a:xfrm>
            <a:off x="1476720" y="1989000"/>
            <a:ext cx="41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агреватель         Т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Поле 17"/>
          <p:cNvSpPr/>
          <p:nvPr/>
        </p:nvSpPr>
        <p:spPr>
          <a:xfrm>
            <a:off x="1402920" y="5805360"/>
            <a:ext cx="41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Холодильник         Т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Поле 20"/>
          <p:cNvSpPr/>
          <p:nvPr/>
        </p:nvSpPr>
        <p:spPr>
          <a:xfrm>
            <a:off x="457200" y="152280"/>
            <a:ext cx="842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Comic Sans MS"/>
              </a:rPr>
              <a:t>Основные части тепловой машины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Группа 73"/>
          <p:cNvGrpSpPr/>
          <p:nvPr/>
        </p:nvGrpSpPr>
        <p:grpSpPr>
          <a:xfrm>
            <a:off x="5364720" y="3213000"/>
            <a:ext cx="1960920" cy="520560"/>
            <a:chOff x="5364720" y="3213000"/>
            <a:chExt cx="1960920" cy="520560"/>
          </a:xfrm>
        </p:grpSpPr>
        <p:sp>
          <p:nvSpPr>
            <p:cNvPr id="271" name="Поле 11"/>
            <p:cNvSpPr/>
            <p:nvPr/>
          </p:nvSpPr>
          <p:spPr>
            <a:xfrm>
              <a:off x="5364720" y="32130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A =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 –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Линия 24"/>
            <p:cNvSpPr/>
            <p:nvPr/>
          </p:nvSpPr>
          <p:spPr>
            <a:xfrm flipV="1">
              <a:off x="608472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Поле 25"/>
            <p:cNvSpPr/>
            <p:nvPr/>
          </p:nvSpPr>
          <p:spPr>
            <a:xfrm>
              <a:off x="5364720" y="32130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A =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 –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4" name="Линия 30"/>
            <p:cNvSpPr/>
            <p:nvPr/>
          </p:nvSpPr>
          <p:spPr>
            <a:xfrm flipV="1">
              <a:off x="651672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Линия 31"/>
            <p:cNvSpPr/>
            <p:nvPr/>
          </p:nvSpPr>
          <p:spPr>
            <a:xfrm flipV="1">
              <a:off x="6804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Линия 34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Линия 35"/>
            <p:cNvSpPr/>
            <p:nvPr/>
          </p:nvSpPr>
          <p:spPr>
            <a:xfrm flipV="1">
              <a:off x="651672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8" name="Линия 36"/>
            <p:cNvSpPr/>
            <p:nvPr/>
          </p:nvSpPr>
          <p:spPr>
            <a:xfrm flipV="1">
              <a:off x="6804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9" name="Линия 37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Линия 38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Линия 39"/>
            <p:cNvSpPr/>
            <p:nvPr/>
          </p:nvSpPr>
          <p:spPr>
            <a:xfrm flipV="1">
              <a:off x="6804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2" name="Линия 40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3" name="Поле 41"/>
            <p:cNvSpPr/>
            <p:nvPr/>
          </p:nvSpPr>
          <p:spPr>
            <a:xfrm>
              <a:off x="5364720" y="32130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A =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 –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Линия 42"/>
            <p:cNvSpPr/>
            <p:nvPr/>
          </p:nvSpPr>
          <p:spPr>
            <a:xfrm flipV="1">
              <a:off x="651672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Линия 43"/>
            <p:cNvSpPr/>
            <p:nvPr/>
          </p:nvSpPr>
          <p:spPr>
            <a:xfrm flipV="1">
              <a:off x="6804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Линия 44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Поле 45"/>
            <p:cNvSpPr/>
            <p:nvPr/>
          </p:nvSpPr>
          <p:spPr>
            <a:xfrm>
              <a:off x="5364720" y="32130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A =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 –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Линия 46"/>
            <p:cNvSpPr/>
            <p:nvPr/>
          </p:nvSpPr>
          <p:spPr>
            <a:xfrm flipV="1">
              <a:off x="651672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Линия 47"/>
            <p:cNvSpPr/>
            <p:nvPr/>
          </p:nvSpPr>
          <p:spPr>
            <a:xfrm flipV="1">
              <a:off x="6804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Линия 48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Поле 49"/>
            <p:cNvSpPr/>
            <p:nvPr/>
          </p:nvSpPr>
          <p:spPr>
            <a:xfrm>
              <a:off x="5364720" y="32130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A =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 –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Линия 50"/>
            <p:cNvSpPr/>
            <p:nvPr/>
          </p:nvSpPr>
          <p:spPr>
            <a:xfrm flipV="1">
              <a:off x="651672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Линия 51"/>
            <p:cNvSpPr/>
            <p:nvPr/>
          </p:nvSpPr>
          <p:spPr>
            <a:xfrm flipV="1">
              <a:off x="6804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4" name="Линия 52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Поле 53"/>
            <p:cNvSpPr/>
            <p:nvPr/>
          </p:nvSpPr>
          <p:spPr>
            <a:xfrm>
              <a:off x="5364720" y="32130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A =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 –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Линия 54"/>
            <p:cNvSpPr/>
            <p:nvPr/>
          </p:nvSpPr>
          <p:spPr>
            <a:xfrm flipV="1">
              <a:off x="651672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Линия 55"/>
            <p:cNvSpPr/>
            <p:nvPr/>
          </p:nvSpPr>
          <p:spPr>
            <a:xfrm flipV="1">
              <a:off x="6804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Линия 56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Поле 57"/>
            <p:cNvSpPr/>
            <p:nvPr/>
          </p:nvSpPr>
          <p:spPr>
            <a:xfrm>
              <a:off x="5364720" y="32130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A =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 –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Линия 58"/>
            <p:cNvSpPr/>
            <p:nvPr/>
          </p:nvSpPr>
          <p:spPr>
            <a:xfrm flipV="1">
              <a:off x="651672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Линия 59"/>
            <p:cNvSpPr/>
            <p:nvPr/>
          </p:nvSpPr>
          <p:spPr>
            <a:xfrm flipV="1">
              <a:off x="6804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Линия 60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Поле 61"/>
            <p:cNvSpPr/>
            <p:nvPr/>
          </p:nvSpPr>
          <p:spPr>
            <a:xfrm>
              <a:off x="5364720" y="32130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A =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 –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Линия 62"/>
            <p:cNvSpPr/>
            <p:nvPr/>
          </p:nvSpPr>
          <p:spPr>
            <a:xfrm flipV="1">
              <a:off x="651672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5" name="Линия 63"/>
            <p:cNvSpPr/>
            <p:nvPr/>
          </p:nvSpPr>
          <p:spPr>
            <a:xfrm flipV="1">
              <a:off x="6804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6" name="Линия 64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7" name="Поле 65"/>
            <p:cNvSpPr/>
            <p:nvPr/>
          </p:nvSpPr>
          <p:spPr>
            <a:xfrm>
              <a:off x="5364720" y="32130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A =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 –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8" name="Линия 66"/>
            <p:cNvSpPr/>
            <p:nvPr/>
          </p:nvSpPr>
          <p:spPr>
            <a:xfrm flipV="1">
              <a:off x="651672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Линия 67"/>
            <p:cNvSpPr/>
            <p:nvPr/>
          </p:nvSpPr>
          <p:spPr>
            <a:xfrm flipV="1">
              <a:off x="6804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Линия 68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1" name="Поле 69"/>
            <p:cNvSpPr/>
            <p:nvPr/>
          </p:nvSpPr>
          <p:spPr>
            <a:xfrm>
              <a:off x="5364720" y="32130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A =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 – Q</a:t>
              </a: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2" name="Линия 70"/>
            <p:cNvSpPr/>
            <p:nvPr/>
          </p:nvSpPr>
          <p:spPr>
            <a:xfrm flipV="1">
              <a:off x="651672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3" name="Линия 71"/>
            <p:cNvSpPr/>
            <p:nvPr/>
          </p:nvSpPr>
          <p:spPr>
            <a:xfrm flipV="1">
              <a:off x="6804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4" name="Линия 72"/>
            <p:cNvSpPr/>
            <p:nvPr/>
          </p:nvSpPr>
          <p:spPr>
            <a:xfrm flipV="1">
              <a:off x="7236000" y="328464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. 5"/>
          <p:cNvSpPr/>
          <p:nvPr/>
        </p:nvSpPr>
        <p:spPr>
          <a:xfrm>
            <a:off x="0" y="-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КПД теплового двигателя (машины)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Прямоуг. 7"/>
          <p:cNvSpPr/>
          <p:nvPr/>
        </p:nvSpPr>
        <p:spPr>
          <a:xfrm>
            <a:off x="457200" y="18284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f4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Arial"/>
              </a:rPr>
              <a:t>Коэффициентом полезного действия теплового двигателя (КПД) называется отношение работы, совершаемой двигателем, к количеству теплоты, полученному от нагревателя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Рисунок 10" descr="resE43EBAD1-0A01-01FD-01BD-07A6B6A471B9"/>
          <p:cNvPicPr/>
          <p:nvPr/>
        </p:nvPicPr>
        <p:blipFill>
          <a:blip r:embed="rId1"/>
          <a:stretch/>
        </p:blipFill>
        <p:spPr>
          <a:xfrm>
            <a:off x="1371600" y="2895480"/>
            <a:ext cx="6324480" cy="193860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. 12"/>
          <p:cNvSpPr/>
          <p:nvPr/>
        </p:nvSpPr>
        <p:spPr>
          <a:xfrm>
            <a:off x="609480" y="495288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f4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Arial"/>
              </a:rPr>
              <a:t>Коэффициент полезного действия любого теплового двигателя меньше единицы и выражается в процентах. Невозможность превращения всего количества теплоты, полученного от нагревателя, в механическую работу является платой за необходимость организации циклического процесса и следует из второго закона термодинамик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9" name="DefaultOcx" descr=""/>
          <p:cNvPicPr/>
          <p:nvPr/>
        </p:nvPicPr>
        <p:blipFill>
          <a:blip r:embed="rId2"/>
          <a:stretch/>
        </p:blipFill>
        <p:spPr>
          <a:xfrm>
            <a:off x="-4451400" y="3108240"/>
            <a:ext cx="914400" cy="228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pic>
        <p:nvPicPr>
          <p:cNvPr id="320" name="HTMLHidden1" descr=""/>
          <p:cNvPicPr/>
          <p:nvPr/>
        </p:nvPicPr>
        <p:blipFill>
          <a:blip r:embed="rId3"/>
          <a:stretch/>
        </p:blipFill>
        <p:spPr>
          <a:xfrm>
            <a:off x="-4662360" y="3108240"/>
            <a:ext cx="914400" cy="228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Актуальность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Тепловая машина основана на принципе преобразования тепловой энергии в механическую работу или наоборот, то есть на выработке энергии. А человек всегда нуждался в ней, следовательно ему необходимы и тепловые машины, значит, в этом и заключается актуальность данной т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5943600" cy="376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. 5"/>
          <p:cNvSpPr/>
          <p:nvPr/>
        </p:nvSpPr>
        <p:spPr>
          <a:xfrm>
            <a:off x="0" y="167400"/>
            <a:ext cx="929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Comic Sans MS"/>
              </a:rPr>
              <a:t>Цикл Карно. КПД идеального теплового двигател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2" name="Рисунок 8" descr="resE43EBB96-0A01-01FD-009D-8DB513D9C339"/>
          <p:cNvPicPr/>
          <p:nvPr/>
        </p:nvPicPr>
        <p:blipFill>
          <a:blip r:embed="rId1"/>
          <a:stretch/>
        </p:blipFill>
        <p:spPr>
          <a:xfrm>
            <a:off x="304920" y="1371600"/>
            <a:ext cx="3448080" cy="342756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. 10"/>
          <p:cNvSpPr/>
          <p:nvPr/>
        </p:nvSpPr>
        <p:spPr>
          <a:xfrm>
            <a:off x="4114800" y="1296720"/>
            <a:ext cx="482436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  <a:ea typeface="Arial"/>
              </a:rPr>
              <a:t>Наибольшим КПД при заданных температурах нагревателя T</a:t>
            </a:r>
            <a:r>
              <a:rPr b="1" lang="ru-RU" sz="2800" spc="-1" strike="noStrike" baseline="-30000">
                <a:solidFill>
                  <a:srgbClr val="ff9933"/>
                </a:solidFill>
                <a:latin typeface="Arial"/>
                <a:ea typeface="Arial"/>
              </a:rPr>
              <a:t>нагр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  <a:ea typeface="Arial"/>
              </a:rPr>
              <a:t> и холодильника T</a:t>
            </a:r>
            <a:r>
              <a:rPr b="1" lang="ru-RU" sz="2800" spc="-1" strike="noStrike" baseline="-30000">
                <a:solidFill>
                  <a:srgbClr val="ff9933"/>
                </a:solidFill>
                <a:latin typeface="Arial"/>
                <a:ea typeface="Arial"/>
              </a:rPr>
              <a:t>хол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  <a:ea typeface="Arial"/>
              </a:rPr>
              <a:t> обладает тепловой двигатель, где рабочее тело расширяется и сжимается по циклу Карно  график которого состоит из двух изотерм (2–3 и 4–1) и двух адиабат (3–4 и 1–2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4" name="Рисунок 13" descr="resE43EBBA3-0A01-01FD-0075-78257C8F8A11"/>
          <p:cNvPicPr/>
          <p:nvPr/>
        </p:nvPicPr>
        <p:blipFill>
          <a:blip r:embed="rId2"/>
          <a:stretch/>
        </p:blipFill>
        <p:spPr>
          <a:xfrm>
            <a:off x="304920" y="4800600"/>
            <a:ext cx="3456000" cy="1655640"/>
          </a:xfrm>
          <a:prstGeom prst="rect">
            <a:avLst/>
          </a:prstGeom>
          <a:ln w="0">
            <a:noFill/>
          </a:ln>
        </p:spPr>
      </p:pic>
      <p:pic>
        <p:nvPicPr>
          <p:cNvPr id="325" name="DefaultOcx" descr=""/>
          <p:cNvPicPr/>
          <p:nvPr/>
        </p:nvPicPr>
        <p:blipFill>
          <a:blip r:embed="rId3"/>
          <a:stretch/>
        </p:blipFill>
        <p:spPr>
          <a:xfrm>
            <a:off x="-4570560" y="3108240"/>
            <a:ext cx="914400" cy="228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. 5"/>
          <p:cNvSpPr/>
          <p:nvPr/>
        </p:nvSpPr>
        <p:spPr>
          <a:xfrm>
            <a:off x="395280" y="17028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4f4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В реальных тепловых двигателях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КПД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определяют по экспериментальной механической мощнос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двигателя и сжигаемому за единицу времени количеству топлива. Так, если за вре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t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сожжено топливо масс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и удельной теплотой сгорания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q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, то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7" name="Рисунок 8" descr="resE43EBADD-0A01-01FD-0021-321DD60AD124"/>
          <p:cNvPicPr/>
          <p:nvPr/>
        </p:nvPicPr>
        <p:blipFill>
          <a:blip r:embed="rId1"/>
          <a:stretch/>
        </p:blipFill>
        <p:spPr>
          <a:xfrm>
            <a:off x="3276720" y="2060640"/>
            <a:ext cx="1792080" cy="144756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. 10"/>
          <p:cNvSpPr/>
          <p:nvPr/>
        </p:nvSpPr>
        <p:spPr>
          <a:xfrm>
            <a:off x="395280" y="335520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4f4f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Для транспортных средств справочной характеристикой часто является объ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V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сжигаемого топлива на пу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при механической мощности двигателя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и при скорости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. В этом случае, учитывая плотность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9933"/>
                </a:solidFill>
                <a:latin typeface="Symbol"/>
                <a:ea typeface="Symbol"/>
              </a:rPr>
              <a:t>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топлива, можно записать формулу для расч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КПД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Рисунок 11" descr="resE43EBAE8-0A01-01FD-0178-CA9548058CE3"/>
          <p:cNvPicPr/>
          <p:nvPr/>
        </p:nvPicPr>
        <p:blipFill>
          <a:blip r:embed="rId2"/>
          <a:stretch/>
        </p:blipFill>
        <p:spPr>
          <a:xfrm>
            <a:off x="4800600" y="4648320"/>
            <a:ext cx="216000" cy="2872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14" descr="resE43EBAF4-0A01-01FD-000A-E5A4930F9CFD"/>
          <p:cNvPicPr/>
          <p:nvPr/>
        </p:nvPicPr>
        <p:blipFill>
          <a:blip r:embed="rId3"/>
          <a:stretch/>
        </p:blipFill>
        <p:spPr>
          <a:xfrm>
            <a:off x="5257800" y="5346720"/>
            <a:ext cx="2376360" cy="15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Коэффициент полезного</a:t>
            </a:r>
            <a:br>
              <a:rPr sz="4000"/>
            </a:br>
            <a:r>
              <a:rPr b="1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действия некоторых тепловых</a:t>
            </a:r>
            <a:br>
              <a:rPr sz="4000"/>
            </a:br>
            <a:r>
              <a:rPr b="1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машин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Карбюраторный двигатель   25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Дизельный двигатель           38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Реактивный двигатель          3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Паровая турбина                     25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Газовая турбина                      55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Тепловые машины и охрана окружающей среды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епрерывное развитие энергетики, автомобильного и других видов транспорта, возрастание потребления угля, нефти и газа в промышленности и на бытовые нужды увеличивает возможности удовлетворения жизненных потребностей человека. Однако в настоящее время количество ежегодно сжигаемого в различных тепловых машинах химического топлива настолько велико, что все более сложной проблемой становится охрана окружающей среды от вредного влияния продуктов сгора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олее половины всех загрязнений атмосферы создает транспорт. Кроме оксида углерода и соединений азота, автомобильные двигатели ежегодно выбрасывают в атмосферу 2—3 млн. т свинца. Соединения свинца добавляют в автомобильный бензин для предотвращения детонации топлива в двигателе, т. е. слишком быстрого сгорания топлива, приводящего к снижению мощности двигателя и его быстрому износу. Так как автомобильные двигатели играют решающую роль в загрязнении атмосферы в городах, проблема существенного усовершенствования автомобильного двигателя представляет одну из наиболее актуальных научно- технических пробле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Один из путей уменьшения загрязнения окружающей среды — переход от использования в автомобилях карбюраторных бензиновых двигателей к использованию дизельных двигателей, в топливо которых не добавляют соединения свинц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Факторы отрицательного влияния на окружающую среду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280" y="1598760"/>
            <a:ext cx="87631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о-первых, при сжигании топлива используется кислород из атмосферного воздуха, поэтому содержание кислорода в воздухе постепенно уменьшается. Если в России пока количество кислорода, производимого лесами, превышает количество кислорода, потребляемого промышленностью, то, например, в США леса восстанавливают лишь 60% используемого промышленностью кислород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о-вторых, сжигание топлива сопровождается выделением в атмосферу углекислого газа. За последние двадцать лет содержание углекислого газа в атмосфере Земли увеличилось примерно на 5%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-третьих, при сжигании угля и нефти атмосфера загрязняется азотными и серными соединениями, вредными для здоровья человека. Особенно существенно это загрязнение в крупных городах и промышленных центр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Вывод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2263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Очевидно, что роль тепловых машин в жизни человека – колоссальна, они заметно упростили деятельность людей, облегчив их тру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Но нельзя забывать и о негативных влияниях техники на окружающую нас среду. Мы часть природы и нужно бережно относиться к ней, а также ценить все технические достижения великих люде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4876920" cy="36594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6446880" y="2362320"/>
            <a:ext cx="269712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Источники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C:\Documents and Settings\Директор\Мои документы\транспортные средства.swf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http://ru.wikipedia.org/wiki/%D2%E0%ED%E5%F6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http://images.yandex.ru/yandsearch?text=%D1%82%D0%B5%D0%BF%D0%BB%D0%BE%D0%B2%D1%8B%D0%B5%20%D0%BC%D0%B0%D1%88%D0%B8%D0%BD%D1%8B&amp;stype=image&amp;noreask=1&amp;lr=4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38080" y="2666880"/>
            <a:ext cx="7925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ПАСИБО ЗА ВНИМАНИЕ!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Деньги потерять – ничего не потерять;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ремя потерять – много потерять;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энергию потерять – все потерят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бъектом исследования является наука физи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едмет исследования –тепловые машин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5410080" cy="341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Гипотез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937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Моя гипотеза основана на утверждении в необходимости тепловых машин. Я уверена, что они выполняют значимую роль в жизни людей, повседневную жизнь которых нельзя представить без тепловых машин и работы с ними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26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Цель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казать важность применения тепловой машины в жизни человек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Изучить принцип работы реальных тепловых двигателей и идеального двигателя работающего по циклу Карно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ссмотреть возможные пути повышения КПД реального двигателя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звить у учащихся любознательность, интерес к техническому творчеству, уважение к научным достижениям ученых и инженеров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Методы</a:t>
            </a:r>
            <a:r>
              <a:rPr b="1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Словесны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Практически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Эмоционально-личностного стимулировани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Немного из истории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eaeaea"/>
                </a:solidFill>
                <a:latin typeface="Arial"/>
              </a:rPr>
              <a:t>С давних времён человек хотел освободиться от физических усилий или облегчить их при перемещении чего-либо, располагать большей силой, быстротой. </a:t>
            </a:r>
            <a:br>
              <a:rPr sz="1500"/>
            </a:br>
            <a:r>
              <a:rPr b="0" lang="ru-RU" sz="1500" spc="-1" strike="noStrike">
                <a:solidFill>
                  <a:srgbClr val="eaeaea"/>
                </a:solidFill>
                <a:latin typeface="Arial"/>
              </a:rPr>
              <a:t>Создавались сказания о коврах самолётах, семимильных сапогах и волшебниках, переносящих человека за тридевять земель мановением жезла. Таская тяжести, люди изобрели тележки, ведь катить легче. Потом они приспособили животных – волов, оленей, собак, больше всего лошадей. Так появились повозки, экипажи. В экипажах люди стремились к комфорту, всё более совершенствуя их. </a:t>
            </a:r>
            <a:br>
              <a:rPr sz="1500"/>
            </a:br>
            <a:r>
              <a:rPr b="0" lang="ru-RU" sz="1500" spc="-1" strike="noStrike">
                <a:solidFill>
                  <a:srgbClr val="eaeaea"/>
                </a:solidFill>
                <a:latin typeface="Arial"/>
              </a:rPr>
              <a:t>Стремление людей увеличить скорость ускоряло и смену событий в истории развития транспорта. Из греческого «аутос» – «сам» и латинского «мобилис» – «подвижный» в европейских языках сложилось прилагательное «самодвижущийся», буквально «авто – мобильный».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eaeaea"/>
                </a:solidFill>
                <a:latin typeface="Arial"/>
              </a:rPr>
              <a:t>Оно относилось к часам, куклам-автоматам, ко всяким механизмам, в общем, ко всему, что служило как бы дополнением «продолжением», «усовершенствованием» человека. В ХVIII веке попробовали заменить живую силу силой пара и применяли к безрельсовым повозкам термин «автомобиль».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eaeaea"/>
                </a:solidFill>
                <a:latin typeface="Arial"/>
              </a:rPr>
              <a:t>Почему же счёт возраста автомобиля ведут от первых «бензиномобилей» с двигателем внутреннего сгорания, изобретённых и построенных в 1885-1886 годах? Как бы забыв о паровых и аккумуляторных (электрических) экипажах. Дело в том, что ДВС произвёл подлинный переворот в транспортной технике. В течение длительного времени он оказался наиболее отвечающим идее автомобиля и потому надолго сохранил своё главенствующее положение. Доля автомобилей с ДВС составляет на сегодня более 99,9% мирового автомобильного транспорт.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Основная часть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910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пловая машина — устройство, преобразующее </a:t>
            </a: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тепловую энергию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в </a:t>
            </a: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механическую работу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(</a:t>
            </a: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тепловой двигатель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или механическую работу в тепло 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(холодильник)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 Преобразование осуществляется за счёт изменения внутренней энергии рабочего тела — на практике обычно пара или газ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ругими словами, тепловой машиной называется устройство, в котором внутренняя энергия превращается в механическу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2133720" y="3860640"/>
            <a:ext cx="4572000" cy="29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15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Comic Sans MS"/>
              </a:rPr>
              <a:t>Примеры тепловых машин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2263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Двигатель внутреннего сгорания (ДВС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а) карбюраторный двигател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б) дизельный двигател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в) реактивный двигател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Паровые и газовые турбины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5410080" cy="3073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1-24T18:39:50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